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C94-DB94-47B0-B830-3599BE34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231-0D40-48D9-91F5-39598292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847-079A-4329-8471-C0E48BC8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5DD-6821-4784-92D7-9FA1C25A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6B66-96C7-4BFB-90B3-1F67ED5A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7693-6E4E-4ED3-AAA2-95344187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9800-C9BB-4291-A2D5-28872CA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244E-48D4-418B-BFF6-519CE4FC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5CF-ECBE-410F-A741-DBBD7D1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CF64-1EB8-4FB9-94D4-C6E75156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6679-EFD4-4563-8EB6-B90976E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AA9-4EC1-4240-91A4-27C7BCB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7CC1-2269-4EF6-85EC-966A6556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D4D-B73A-4422-80DE-67FFF81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280-70BF-4571-9FD0-4926CF4B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189C-783C-4789-AB71-4BBACD3B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A1B3-A694-4169-85F9-15163D78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2E4-6220-4EEC-91D0-04328BB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0B6-CCF1-4497-86C9-CAFCE7E0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0E0-9B53-4E2B-933E-9FA5E4FB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0B1-8D5A-4C08-8664-9C948AB5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E67-00CB-4FFC-8957-E37F86F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7CB-48FD-4087-BFFB-CB26756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6C6-12A0-40B7-94DD-2F2624A0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4046-DA6E-47D3-B8D7-4F4BF8A6C79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74C8-6377-4F6C-9F32-661AEEC1C4C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sumer Benefits, Perception and Edu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facilitate consumer confidence and trust in bio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achieve a state where consumers, and those who make decisions that affect consumption, understand and accept the benefits and buy food produc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trategies and Tac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facts – science proof, cases (Biosummit –common place for ongoing discus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questions – dialogue, understand the consumers needs and concer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messengers – who peopl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the constituencies – target group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armonisation of regulations/standards/messages – to meet consumer concerns and increas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2. Create a Common Objective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round a high level global go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need to feed people – population grow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imperative of the food security probl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compelling case of biotech as an important solu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ntity – intensification of production, disease/stor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lity – nutritional enhancement, designer foo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sources – water, land, nutrient inputs, energ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stainable – future generations, economic, social and environmental sustainab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o address each consumer’s fe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tional &amp; regional programmes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imulate communic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nerate tru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ganise/motivate identified messengers – provide with common, effective, understandable messag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sure “real safety” information is communicated within the greater food/nutrition perspec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oice – labelling ques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sembling concrete evidence of benef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uture economics – food supp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national cases – developing econom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howing benefits compared with traditional metho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d aid programme benefits – Vit A, Fe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cial, ecological and economic impact stu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ice/cos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e the imperative story for food security and increased food p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lect a credible international body (vehicle) to sponsor the actions eg WHO, WB, ADB et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groups to conduct each component of the “preparat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 parameters for official development assistance earmarked for food security and increased food production – eg. x% GD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commendations and message need to be actively presented and promoted t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rch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E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y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 Tech Coop Experts (Gov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BAC (Busin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une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de Minis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v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port to Lea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In addition to the above, participants should actively promote the recommendations and message within their own countr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1911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828800"/>
            <a:ext cx="2971800" cy="3048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-990720"/>
            <a:ext cx="4419720" cy="4343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86000"/>
            <a:ext cx="220968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419720"/>
            <a:ext cx="68580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76160" y="4419720"/>
            <a:ext cx="53316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181480"/>
            <a:ext cx="83808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2819520"/>
            <a:ext cx="13716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3200040"/>
            <a:ext cx="152388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2360" y="762120"/>
            <a:ext cx="205740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14840" y="762120"/>
            <a:ext cx="304920" cy="2590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71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99072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5181480"/>
            <a:ext cx="457200" cy="838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840" y="46483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3840" y="4264200"/>
            <a:ext cx="91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Understanding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2520" y="464832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reat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ommon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Objectiv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400" y="52545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tart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120" y="5102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Fact Bas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559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0960" y="28195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20574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ducation &amp;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Training of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Messeng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440" y="308448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Nation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Programm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388620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Ongoing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Summi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3240" y="3581280"/>
            <a:ext cx="11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2895120"/>
            <a:ext cx="6934320" cy="304812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-304920"/>
            <a:ext cx="4952880" cy="472464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5960" y="533520"/>
            <a:ext cx="163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-304920"/>
            <a:ext cx="1676520" cy="1067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200400"/>
            <a:ext cx="457200" cy="1600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762120"/>
            <a:ext cx="1904760" cy="16761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20120" y="-381240"/>
            <a:ext cx="152388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4:24:08Z</dcterms:created>
  <dc:creator>Default</dc:creator>
  <dc:description/>
  <dc:language>en-US</dc:language>
  <cp:lastModifiedBy>Default</cp:lastModifiedBy>
  <dcterms:modified xsi:type="dcterms:W3CDTF">2000-03-17T20:19:26Z</dcterms:modified>
  <cp:revision>13</cp:revision>
  <dc:subject/>
  <dc:title>Consumer Benefits, Perception and Education</dc:title>
</cp:coreProperties>
</file>