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EE1-814B-4BAE-B419-6FE1A86B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7C9-26D4-42F2-9D63-80E5931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E0E-F922-4753-AE83-28972F5C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4DF-747C-4EEF-9F0B-BE7FC917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F2D-A3D6-4F4A-A028-7FC10D42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AAD-2325-4EAC-AA02-5A312E78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655-BED9-4F0F-AB41-6999E913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37E-58A9-4E4F-87F7-E026FD8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DB7-66C3-4221-9D4B-9CD09AB1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CF0-0086-4388-BFF2-8C11F49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8CB-FE2B-4C11-B3C6-DC7854A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79A-8079-4455-8F66-A1C193C4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3B7E-96BC-405F-AD9A-F5346043F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the environment and quality of life through 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Enhancement of the environment will be an integral part of development and use of any biotechnology initiative or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Proactively communicate the opportunities to improve the environment and quality of life through bio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model to incorporate environmental considerations into biotechnology R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Conference or working group to initia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CC and PB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Post-November 2000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licit political support within the countries through the united efforts of PBEC, ABAC, and P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through November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EC takes leadership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Countries identify and publicize the benefits and needs of biotechnology for their growth and development (ready for conference under (A.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paper for APEC ATC on benefits of biotechnology o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May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Foundation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  PBEC Food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volve private sector, responsible environmental groups, and scientific organizations to proactively educate the policymakers, the media, and the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zing positive results i.e., the environmental enhancement, nutrition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 messages to various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foundations in promoting biotechnology for environmental preservation and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March 2000 and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05:50:15Z</dcterms:created>
  <dc:creator>DJR</dc:creator>
  <dc:description/>
  <dc:language>en-US</dc:language>
  <cp:lastModifiedBy>Default</cp:lastModifiedBy>
  <dcterms:modified xsi:type="dcterms:W3CDTF">2000-03-17T20:33:18Z</dcterms:modified>
  <cp:revision>2</cp:revision>
  <dc:subject/>
  <dc:title>Environmental Protection</dc:title>
</cp:coreProperties>
</file>