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56435-86BB-43CC-93B0-2B3E6DCA9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C3061-A1B7-4EFE-B95B-3DF2F636A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58886-47A6-47CC-94AF-AE814D188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A3412-723A-4D72-8320-112DF635D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8F08A-F753-4E85-9493-7F34E697C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16753-AB50-476F-9321-EFEE0D988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CDDAD-F05C-4B19-A8DF-73889B604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20508-6777-4391-86AC-68C189B14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4726B-2FD0-44CD-9CED-3EA149868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38FD0-EC83-45DE-9472-FF00E2CA2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3EC23-3287-4E0F-95C7-61AED5299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23672-5C77-4303-BE08-618501E74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140F6-7C1C-4BF7-BB5C-B0C95FB7A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92675-F2D1-4E33-87B7-11B18E470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EA222-1160-437C-AA1B-D0FA13F43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29233-A1D7-47C0-B64E-6BACDF764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8885F-95CA-4BC2-BFBD-F2511202D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F54A9-DB28-4EEE-87BF-726B2892C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4FF92-8976-4CC6-ADC3-853F148E2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9DA4C-31F8-4F68-A4C6-F95888247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8C72D-134B-4000-A5DB-C5DA77BD0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70744-6BF4-4F5B-A82D-FD78E7FAA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DEA5A-849C-4A82-AC43-712F8946B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6A004-8A8E-4968-8990-4FB6D475E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76880-618E-47C8-8C07-079D830BC3F8}" type="slidenum"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890DF-A4BF-4857-BABB-29C098B06843}" type="slidenum"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Consumer Benefits, Perception and Educatio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273320" y="372888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Missio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o facilitate consumer confidence and trust in biotechnology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To achieve a state where consumers, and those who make decisions that affect consumption, understand and accept the benefits and buy food products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Strategies and Tactic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1. </a:t>
            </a:r>
            <a:r>
              <a:rPr b="1" lang="en-US" sz="3600" spc="-1" strike="noStrike">
                <a:solidFill>
                  <a:srgbClr val="545472"/>
                </a:solidFill>
                <a:latin typeface="Tahoma"/>
              </a:rPr>
              <a:t>Preparation</a:t>
            </a:r>
            <a:endParaRPr b="0" lang="en-US" sz="3600" spc="-1" strike="noStrike">
              <a:solidFill>
                <a:srgbClr val="545472"/>
              </a:solidFill>
              <a:latin typeface="Tahoma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Assemble the facts – science proof, cases (Biosummit –common place for ongoing discussion)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Assemble the questions – dialogue, understand the consumers needs and concerns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Identify credible messengers – who people trust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Understand the constituencies – target groups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Harmonisation of regulations/standards/messages – to meet consumer concerns and increase trust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2. Create a Common Objective </a:t>
            </a:r>
            <a:r>
              <a:rPr b="1" lang="en-US" sz="3200" spc="-1" strike="noStrike">
                <a:solidFill>
                  <a:srgbClr val="660066"/>
                </a:solidFill>
                <a:latin typeface="Tahoma"/>
              </a:rPr>
              <a:t>around a high level global goal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We need to feed people – population growth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Prove the imperative of the food security problem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Prove the compelling case of biotech as an important solution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Quantity – intensification of production, disease/storage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Quality – nutritional enhancement, designer foods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Resources – water, land, nutrient inputs, energy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ustainable – future generations, economic, social and environmental sustainability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3. Implementation </a:t>
            </a:r>
            <a:br>
              <a:rPr sz="4400"/>
            </a:br>
            <a:r>
              <a:rPr b="1" lang="en-US" sz="3600" spc="-1" strike="noStrike">
                <a:solidFill>
                  <a:srgbClr val="660066"/>
                </a:solidFill>
                <a:latin typeface="Tahoma"/>
              </a:rPr>
              <a:t>to address each consumer’s fear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National &amp; regional programmes to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timulate communication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Generate trust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Organise/motivate identified messengers – provide with common, effective, understandable messages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Ensure “real safety” information is communicated within the greater food/nutrition perspective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Choice – labelling question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3. Implementation </a:t>
            </a:r>
            <a:br>
              <a:rPr sz="4400"/>
            </a:b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	</a:t>
            </a: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660066"/>
                </a:solidFill>
                <a:latin typeface="Tahoma"/>
              </a:rPr>
              <a:t>(continued)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Assembling concrete evidence of benefits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Future economics – food supply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Other national cases – developing economies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Showing benefits compared with traditional methods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Food aid programme benefits – Vit A, Fe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Social, ecological and economic impact study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Price/costs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Action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72760" indent="-572760">
              <a:lnSpc>
                <a:spcPct val="90000"/>
              </a:lnSpc>
              <a:spcBef>
                <a:spcPts val="700"/>
              </a:spcBef>
              <a:buClr>
                <a:srgbClr val="545472"/>
              </a:buClr>
              <a:buSzPct val="9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Create the imperative story for food security and increased food production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572760" indent="-572760">
              <a:lnSpc>
                <a:spcPct val="90000"/>
              </a:lnSpc>
              <a:spcBef>
                <a:spcPts val="700"/>
              </a:spcBef>
              <a:buClr>
                <a:srgbClr val="545472"/>
              </a:buClr>
              <a:buSzPct val="9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lect a credible international body (vehicle) to sponsor the actions eg WHO, WB, ADB etc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572760" indent="-572760">
              <a:lnSpc>
                <a:spcPct val="90000"/>
              </a:lnSpc>
              <a:spcBef>
                <a:spcPts val="700"/>
              </a:spcBef>
              <a:buClr>
                <a:srgbClr val="545472"/>
              </a:buClr>
              <a:buSzPct val="9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Identify credible groups to conduct each component of the “preparation”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572760" indent="-572760">
              <a:lnSpc>
                <a:spcPct val="90000"/>
              </a:lnSpc>
              <a:spcBef>
                <a:spcPts val="700"/>
              </a:spcBef>
              <a:buClr>
                <a:srgbClr val="545472"/>
              </a:buClr>
              <a:buSzPct val="9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t parameters for official development assistance earmarked for food security and increased food production – eg. x% GDP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Timelin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The recommendations and message need to be actively presented and promoted to: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March: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APEC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May: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Ag Tech Coop Experts (Govt)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ABAC (Business)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June: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Trade Ministers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Nov: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Report to Leaders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545472"/>
                </a:solidFill>
                <a:latin typeface="Tahoma"/>
              </a:rPr>
              <a:t>In addition to the above, participants should actively promote the recommendations and message within their own countries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685800" y="4191120"/>
            <a:ext cx="1905120" cy="19047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819520" y="1828800"/>
            <a:ext cx="2971800" cy="30481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410080" y="-990720"/>
            <a:ext cx="4419720" cy="4343400"/>
          </a:xfrm>
          <a:prstGeom prst="ellipse">
            <a:avLst/>
          </a:prstGeom>
          <a:solidFill>
            <a:srgbClr val="00cc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276720" y="2286000"/>
            <a:ext cx="2209680" cy="1981080"/>
          </a:xfrm>
          <a:prstGeom prst="line">
            <a:avLst/>
          </a:prstGeom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990720" y="4419720"/>
            <a:ext cx="685800" cy="761760"/>
          </a:xfrm>
          <a:prstGeom prst="line">
            <a:avLst/>
          </a:prstGeom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1676160" y="4419720"/>
            <a:ext cx="533160" cy="761760"/>
          </a:xfrm>
          <a:prstGeom prst="line">
            <a:avLst/>
          </a:prstGeom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676520" y="5181480"/>
            <a:ext cx="838080" cy="228600"/>
          </a:xfrm>
          <a:prstGeom prst="line">
            <a:avLst/>
          </a:prstGeom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4343400" y="2819520"/>
            <a:ext cx="1371600" cy="380880"/>
          </a:xfrm>
          <a:prstGeom prst="line">
            <a:avLst/>
          </a:prstGeom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819520" y="3200040"/>
            <a:ext cx="1523880" cy="304920"/>
          </a:xfrm>
          <a:prstGeom prst="line">
            <a:avLst/>
          </a:prstGeom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5562360" y="762120"/>
            <a:ext cx="2057400" cy="1143000"/>
          </a:xfrm>
          <a:prstGeom prst="line">
            <a:avLst/>
          </a:prstGeom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7314840" y="762120"/>
            <a:ext cx="304920" cy="2590560"/>
          </a:xfrm>
          <a:prstGeom prst="line">
            <a:avLst/>
          </a:prstGeom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127160" y="4994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85800" y="4952880"/>
            <a:ext cx="990720" cy="228600"/>
          </a:xfrm>
          <a:prstGeom prst="line">
            <a:avLst/>
          </a:prstGeom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1219320" y="5181480"/>
            <a:ext cx="457200" cy="838440"/>
          </a:xfrm>
          <a:prstGeom prst="line">
            <a:avLst/>
          </a:prstGeom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09840" y="4648320"/>
            <a:ext cx="10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545472"/>
                </a:solidFill>
                <a:latin typeface="Times New Roman"/>
              </a:rPr>
              <a:t>Evaluation &amp; </a:t>
            </a:r>
            <a:endParaRPr b="0" lang="en-US" sz="9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545472"/>
                </a:solidFill>
                <a:latin typeface="Times New Roman"/>
              </a:rPr>
              <a:t>Exchange System</a:t>
            </a:r>
            <a:endParaRPr b="0" lang="en-US" sz="9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203840" y="4264200"/>
            <a:ext cx="913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545472"/>
                </a:solidFill>
                <a:latin typeface="Times New Roman"/>
              </a:rPr>
              <a:t>Assemble </a:t>
            </a:r>
            <a:endParaRPr b="0" lang="en-US" sz="9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545472"/>
                </a:solidFill>
                <a:latin typeface="Times New Roman"/>
              </a:rPr>
              <a:t>Social </a:t>
            </a:r>
            <a:endParaRPr b="0" lang="en-US" sz="9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545472"/>
                </a:solidFill>
                <a:latin typeface="Times New Roman"/>
              </a:rPr>
              <a:t>Understanding</a:t>
            </a:r>
            <a:endParaRPr b="0" lang="en-US" sz="9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982520" y="4648320"/>
            <a:ext cx="6609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545472"/>
                </a:solidFill>
                <a:latin typeface="Times New Roman"/>
              </a:rPr>
              <a:t>Create </a:t>
            </a:r>
            <a:endParaRPr b="0" lang="en-US" sz="9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545472"/>
                </a:solidFill>
                <a:latin typeface="Times New Roman"/>
              </a:rPr>
              <a:t>Common </a:t>
            </a:r>
            <a:endParaRPr b="0" lang="en-US" sz="9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545472"/>
                </a:solidFill>
                <a:latin typeface="Times New Roman"/>
              </a:rPr>
              <a:t>Objective</a:t>
            </a:r>
            <a:endParaRPr b="0" lang="en-US" sz="9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508400" y="5254560"/>
            <a:ext cx="91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545472"/>
                </a:solidFill>
                <a:latin typeface="Times New Roman"/>
              </a:rPr>
              <a:t>Start </a:t>
            </a:r>
            <a:endParaRPr b="0" lang="en-US" sz="9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545472"/>
                </a:solidFill>
                <a:latin typeface="Times New Roman"/>
              </a:rPr>
              <a:t>Harmonisation</a:t>
            </a:r>
            <a:endParaRPr b="0" lang="en-US" sz="9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2120" y="5102280"/>
            <a:ext cx="67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545472"/>
                </a:solidFill>
                <a:latin typeface="Times New Roman"/>
              </a:rPr>
              <a:t>Assemble </a:t>
            </a:r>
            <a:endParaRPr b="0" lang="en-US" sz="9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545472"/>
                </a:solidFill>
                <a:latin typeface="Times New Roman"/>
              </a:rPr>
              <a:t>Fact Base</a:t>
            </a:r>
            <a:endParaRPr b="0" lang="en-US" sz="9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955960" y="4917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820960" y="28195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45472"/>
                </a:solidFill>
                <a:latin typeface="Times New Roman"/>
              </a:rPr>
              <a:t>Evaluation &amp; 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45472"/>
                </a:solidFill>
                <a:latin typeface="Times New Roman"/>
              </a:rPr>
              <a:t>Exchange System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886920" y="2057400"/>
            <a:ext cx="1015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45472"/>
                </a:solidFill>
                <a:latin typeface="Times New Roman"/>
              </a:rPr>
              <a:t>Education &amp;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45472"/>
                </a:solidFill>
                <a:latin typeface="Times New Roman"/>
              </a:rPr>
              <a:t>Training of 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45472"/>
                </a:solidFill>
                <a:latin typeface="Times New Roman"/>
              </a:rPr>
              <a:t>Messengers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636440" y="3084480"/>
            <a:ext cx="1015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45472"/>
                </a:solidFill>
                <a:latin typeface="Times New Roman"/>
              </a:rPr>
              <a:t>National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45472"/>
                </a:solidFill>
                <a:latin typeface="Times New Roman"/>
              </a:rPr>
              <a:t>Programmes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191480" y="3886200"/>
            <a:ext cx="779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45472"/>
                </a:solidFill>
                <a:latin typeface="Times New Roman"/>
              </a:rPr>
              <a:t>Ongoing 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45472"/>
                </a:solidFill>
                <a:latin typeface="Times New Roman"/>
              </a:rPr>
              <a:t>Summit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973240" y="3581280"/>
            <a:ext cx="1163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45472"/>
                </a:solidFill>
                <a:latin typeface="Times New Roman"/>
              </a:rPr>
              <a:t>Harmonisation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45472"/>
                </a:solidFill>
                <a:latin typeface="Times New Roman"/>
              </a:rPr>
              <a:t>(Continued)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241960" y="4384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2209680" y="2895120"/>
            <a:ext cx="6934320" cy="3048120"/>
          </a:xfrm>
          <a:prstGeom prst="line">
            <a:avLst/>
          </a:prstGeom>
          <a:ln w="936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990720" y="-304920"/>
            <a:ext cx="4952880" cy="4724640"/>
          </a:xfrm>
          <a:prstGeom prst="line">
            <a:avLst/>
          </a:prstGeom>
          <a:ln w="936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565960" y="533520"/>
            <a:ext cx="163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45472"/>
                </a:solidFill>
                <a:latin typeface="Times New Roman"/>
              </a:rPr>
              <a:t>Evaluation &amp; </a:t>
            </a: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45472"/>
                </a:solidFill>
                <a:latin typeface="Times New Roman"/>
              </a:rPr>
              <a:t>Exchange System</a:t>
            </a: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943600" y="-304920"/>
            <a:ext cx="1676520" cy="1067040"/>
          </a:xfrm>
          <a:prstGeom prst="line">
            <a:avLst/>
          </a:prstGeom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3809880" y="3200400"/>
            <a:ext cx="457200" cy="1600200"/>
          </a:xfrm>
          <a:prstGeom prst="line">
            <a:avLst/>
          </a:prstGeom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620120" y="762120"/>
            <a:ext cx="1904760" cy="1676160"/>
          </a:xfrm>
          <a:prstGeom prst="line">
            <a:avLst/>
          </a:prstGeom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7620120" y="-381240"/>
            <a:ext cx="1523880" cy="1143000"/>
          </a:xfrm>
          <a:prstGeom prst="line">
            <a:avLst/>
          </a:prstGeom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17T04:24:08Z</dcterms:created>
  <dc:creator>Default</dc:creator>
  <dc:description/>
  <dc:language>en-US</dc:language>
  <cp:lastModifiedBy>Default</cp:lastModifiedBy>
  <dcterms:modified xsi:type="dcterms:W3CDTF">2000-03-17T20:19:26Z</dcterms:modified>
  <cp:revision>13</cp:revision>
  <dc:subject/>
  <dc:title>Consumer Benefits, Perception and Education</dc:title>
</cp:coreProperties>
</file>