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7BAF-37B1-4AD7-9E54-9EB36D139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177920" y="4343400"/>
            <a:ext cx="4370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03400" y="4836960"/>
            <a:ext cx="463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3400" y="5433840"/>
            <a:ext cx="456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76480" y="6027840"/>
            <a:ext cx="44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3400" y="6699240"/>
            <a:ext cx="463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3400" y="7294680"/>
            <a:ext cx="463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76480" y="7888320"/>
            <a:ext cx="463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0"/>
            <a:ext cx="1060200" cy="6843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66680" y="-6480"/>
            <a:ext cx="300240" cy="685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dupont" descr=""/>
          <p:cNvPicPr/>
          <p:nvPr/>
        </p:nvPicPr>
        <p:blipFill>
          <a:blip r:embed="rId2"/>
          <a:stretch/>
        </p:blipFill>
        <p:spPr>
          <a:xfrm>
            <a:off x="152280" y="428760"/>
            <a:ext cx="733680" cy="3236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320" y="5610240"/>
            <a:ext cx="909360" cy="6271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15920" y="1447920"/>
            <a:ext cx="798480" cy="3497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5499000"/>
            <a:ext cx="434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Hardeep S. Gr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EA Regional Dir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ioneer Hi-Bred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 DuPont Busines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0" y="152280"/>
            <a:ext cx="5715000" cy="137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POS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50960" y="1981080"/>
            <a:ext cx="51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 Rounded MT Bold"/>
              </a:rPr>
              <a:t>Ag-biotech Products for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752480" y="2666880"/>
            <a:ext cx="6251400" cy="3735360"/>
            <a:chOff x="1752480" y="2666880"/>
            <a:chExt cx="6251400" cy="3735360"/>
          </a:xfrm>
        </p:grpSpPr>
        <p:sp>
          <p:nvSpPr>
            <p:cNvPr id="127" name=""/>
            <p:cNvSpPr/>
            <p:nvPr/>
          </p:nvSpPr>
          <p:spPr>
            <a:xfrm>
              <a:off x="2361960" y="5410080"/>
              <a:ext cx="487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361960" y="26668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38640" y="55623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37000" y="55623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0" y="55623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70720" y="55623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isaa" descr=""/>
            <p:cNvPicPr/>
            <p:nvPr/>
          </p:nvPicPr>
          <p:blipFill>
            <a:blip r:embed="rId1"/>
            <a:stretch/>
          </p:blipFill>
          <p:spPr>
            <a:xfrm>
              <a:off x="1752480" y="5771880"/>
              <a:ext cx="7617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Lines" descr=""/>
            <p:cNvPicPr/>
            <p:nvPr/>
          </p:nvPicPr>
          <p:blipFill>
            <a:blip r:embed="rId2"/>
            <a:stretch/>
          </p:blipFill>
          <p:spPr>
            <a:xfrm>
              <a:off x="3095280" y="3273120"/>
              <a:ext cx="36100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969440" y="4495680"/>
              <a:ext cx="12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ff"/>
                  </a:solidFill>
                  <a:latin typeface="Arial Rounded MT Bold"/>
                </a:rPr>
                <a:t>Food 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25320" y="5028840"/>
              <a:ext cx="161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ff"/>
                  </a:solidFill>
                  <a:latin typeface="Arial Rounded MT Bold"/>
                </a:rPr>
                <a:t>Agronomic Tra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81920" y="3657240"/>
              <a:ext cx="182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ff"/>
                  </a:solidFill>
                  <a:latin typeface="Arial Rounded MT Bold"/>
                </a:rPr>
                <a:t>Specialty prod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89760" y="5943240"/>
              <a:ext cx="436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Source: The Importance of Ag-biotech to Global Prosper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ISAAA Briefs -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Anatole Krat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81080" y="228600"/>
            <a:ext cx="6248520" cy="137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benefit of biotechnology to small far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: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B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Corn hyb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2308320"/>
            <a:ext cx="7086600" cy="35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85800" indent="-399960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echnology is affordable &amp; small-farmer friendly (technology is incorporated in the se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99960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crease harvest yield (additional 1 MT/ ha), thus increase profit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99960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cologically bene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343080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tible with biologic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99960">
              <a:lnSpc>
                <a:spcPct val="100000"/>
              </a:lnSpc>
              <a:buClr>
                <a:srgbClr val="008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5778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equences of non-adoption of bio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241720"/>
            <a:ext cx="746748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8880" indent="-514440">
              <a:lnSpc>
                <a:spcPct val="3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mall farmers in Asia / Pacific risk become non-competitive in global agricultural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5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mall farmers in Asia / Pacific not be able to meet national food and feed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5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sustainable development of traditional c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5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81080" y="228600"/>
            <a:ext cx="6324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nac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824200"/>
            <a:ext cx="7315200" cy="35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able economic and political 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9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Vibrant feed and livestock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9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Trade liberalization of agricultural products and  ag-biotech 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9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Investment in rural infra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3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Access to cred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219384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 small farmers to be globally competitive they need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981080" y="228600"/>
            <a:ext cx="63248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nefits to farm-based commun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1676520"/>
            <a:ext cx="731520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paya Biotechnology Network of 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irus resistant technology (RS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ayed-ripening technolo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9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Banana Project in Keny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issue culture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ayed-ripening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Tomato virus diagnostic project in Indones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weet potato / insect resistance project in Vietn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30640" y="6019920"/>
            <a:ext cx="571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Source: New Partnerships for Prosperity: Building Public/Private Agri-Biote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Networks for Resource Poor Farmers in SEA and Afri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ISAAA Biennial Report 1997-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isaa" descr=""/>
          <p:cNvPicPr/>
          <p:nvPr/>
        </p:nvPicPr>
        <p:blipFill>
          <a:blip r:embed="rId1"/>
          <a:stretch/>
        </p:blipFill>
        <p:spPr>
          <a:xfrm>
            <a:off x="1523880" y="6000840"/>
            <a:ext cx="7621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technolog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520" y="182880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od Safety, labeling &amp; 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nvironmental impact &amp; bio-d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sumer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th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VP/IPR/Patents/”Freedom to Opera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rade harmo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31880" y="76320"/>
            <a:ext cx="7359840" cy="137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 Ag-Biote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hail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636560" y="1752480"/>
          <a:ext cx="7126560" cy="44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6560" y="1752480"/>
                    <a:ext cx="7126560" cy="44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iosafety guidelines developed in most of ASEA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imited field tes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 commercial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creased workshops/symposia/hea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creased media 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5105520"/>
            <a:ext cx="7162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th to Commercialization is Unknown in ASEAN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473040"/>
            <a:ext cx="7315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ccessful use of Bio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REQUI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057400"/>
            <a:ext cx="6553440" cy="45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Educational campaign for public awarenes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rs / consumers / regulators / facilitato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National policies which are consistent for the utilization of agricultural biotechnology produc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3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Science-based approach for risk assessment / regulatory proce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76520" y="2112840"/>
            <a:ext cx="716256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Region-wide harmonization of regulatory requirements and commercialization protoco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Plant Variety Protection Law and appropriate trademark and patent la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Private / Public sector resources to fulfill these requirem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3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Private and public sector collabo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473040"/>
            <a:ext cx="7315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ccessful use of Bio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REQUI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Pont's Biotechnology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259092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dhere to highest ethical standa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upport informed consumer cho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otection of the natural enviro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Live product safe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Pont's Biotechnology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ＭＳ 明朝"/>
              </a:rPr>
              <a:t>Practice biotechnology with the same safety standard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raw materia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ＭＳ 明朝"/>
              </a:rPr>
              <a:t>Nearly 200 years of experience in industrial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ＭＳ 明朝"/>
              </a:rPr>
              <a:t>Support rigorous testing and regulatory safeguards that carefully consider both human health and environmental prot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917800">
            <a:off x="185040" y="346680"/>
            <a:ext cx="8960040" cy="8958240"/>
          </a:xfrm>
          <a:prstGeom prst="blockArc">
            <a:avLst>
              <a:gd name="adj1" fmla="val 13737811"/>
              <a:gd name="adj2" fmla="val 18662189"/>
              <a:gd name="adj3" fmla="val 40153"/>
            </a:avLst>
          </a:prstGeom>
          <a:solidFill>
            <a:srgbClr val="ccffcc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9529400">
            <a:off x="185400" y="345600"/>
            <a:ext cx="8958240" cy="8958240"/>
          </a:xfrm>
          <a:prstGeom prst="blockArc">
            <a:avLst>
              <a:gd name="adj1" fmla="val 12891070"/>
              <a:gd name="adj2" fmla="val 19508930"/>
              <a:gd name="adj3" fmla="val 39356"/>
            </a:avLst>
          </a:prstGeom>
          <a:solidFill>
            <a:srgbClr val="3333cc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820800" y="4047840"/>
            <a:ext cx="3030480" cy="67932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261040" y="2895120"/>
            <a:ext cx="2663640" cy="161604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025960" y="1728360"/>
            <a:ext cx="1766880" cy="253548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695840" y="1084320"/>
            <a:ext cx="552600" cy="302112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497040" y="1141560"/>
            <a:ext cx="842760" cy="297648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1893960" y="2052360"/>
            <a:ext cx="2179440" cy="226836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305320" y="4087800"/>
            <a:ext cx="3076560" cy="66528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09800" y="1287360"/>
            <a:ext cx="7124400" cy="7124760"/>
          </a:xfrm>
          <a:prstGeom prst="blockArc">
            <a:avLst>
              <a:gd name="adj1" fmla="val 10800000"/>
              <a:gd name="adj2" fmla="val 0"/>
              <a:gd name="adj3" fmla="val 20722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54200" y="2876400"/>
            <a:ext cx="4065840" cy="3916440"/>
          </a:xfrm>
          <a:prstGeom prst="blockArc">
            <a:avLst>
              <a:gd name="adj1" fmla="val 10797091"/>
              <a:gd name="adj2" fmla="val 2909"/>
              <a:gd name="adj3" fmla="val 28111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4087800"/>
            <a:ext cx="1524240" cy="160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43354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ci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09800" y="5094360"/>
            <a:ext cx="7124400" cy="59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9920" y="5154480"/>
            <a:ext cx="69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    Physics    Chemistry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246400">
            <a:off x="6754320" y="753840"/>
            <a:ext cx="19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Mark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8941400">
            <a:off x="706680" y="168228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utomo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20808000">
            <a:off x="2736360" y="691920"/>
            <a:ext cx="15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o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72400">
            <a:off x="4571280" y="67284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ppar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284200">
            <a:off x="5983920" y="143964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17342400">
            <a:off x="-363240" y="359352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lectr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3518400">
            <a:off x="7636320" y="2678400"/>
            <a:ext cx="10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35440" y="3862440"/>
            <a:ext cx="14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Electr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61400" y="184320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oly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36120" y="14018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92720" y="264960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Coa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96440" y="323676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i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87760" y="1814400"/>
            <a:ext cx="164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C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22760" y="25574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63320" y="34084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93120" y="29541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Gr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49440" y="425916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ha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26520" y="1747800"/>
            <a:ext cx="353880" cy="511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319800" y="345600"/>
            <a:ext cx="557280" cy="2509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rot="21570600">
            <a:off x="5168880" y="3236400"/>
            <a:ext cx="166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Ag 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Nutrition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56280" y="5040360"/>
            <a:ext cx="1452600" cy="666720"/>
          </a:xfrm>
          <a:prstGeom prst="ellipse">
            <a:avLst/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26040" y="3198960"/>
            <a:ext cx="1666800" cy="118080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67520" y="5867280"/>
            <a:ext cx="595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 Narrow"/>
              </a:rPr>
              <a:t>Biology - A Powerful 4th Science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39960" y="3708360"/>
            <a:ext cx="3551400" cy="927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4594200">
            <a:off x="7931160" y="387180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910040" y="655560"/>
            <a:ext cx="1333440" cy="33451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 rot="19396800">
            <a:off x="3181320" y="3593880"/>
            <a:ext cx="1760400" cy="857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69696"/>
                </a:solidFill>
                <a:latin typeface="Arial Black"/>
              </a:rPr>
              <a:t>Technology</a:t>
            </a:r>
            <a:endParaRPr b="0" lang="en-US" sz="2400" spc="1" strike="noStrike">
              <a:ln w="0">
                <a:noFill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37400" y="4218120"/>
            <a:ext cx="1452600" cy="520560"/>
          </a:xfrm>
          <a:prstGeom prst="ellipse">
            <a:avLst/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31880" y="76320"/>
            <a:ext cx="7359840" cy="137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7 -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9560" y="167652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Global Area of Transgenic Cr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millions of hect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36800" y="2327400"/>
            <a:ext cx="6095880" cy="3276360"/>
            <a:chOff x="1936800" y="2327400"/>
            <a:chExt cx="6095880" cy="3276360"/>
          </a:xfrm>
        </p:grpSpPr>
        <p:graphicFrame>
          <p:nvGraphicFramePr>
            <p:cNvPr id="103" name=""/>
            <p:cNvGraphicFramePr/>
            <p:nvPr/>
          </p:nvGraphicFramePr>
          <p:xfrm>
            <a:off x="2241720" y="2327400"/>
            <a:ext cx="5790960" cy="2489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41720" y="2327400"/>
                      <a:ext cx="5790960" cy="24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"/>
            <p:cNvSpPr/>
            <p:nvPr/>
          </p:nvSpPr>
          <p:spPr>
            <a:xfrm>
              <a:off x="2710440" y="5070600"/>
              <a:ext cx="4850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Source: Global Review of Commercialized Transgenic Crops: 19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ISAAA Briefs -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Clive J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isaa" descr=""/>
            <p:cNvPicPr/>
            <p:nvPr/>
          </p:nvPicPr>
          <p:blipFill>
            <a:blip r:embed="rId3"/>
            <a:stretch/>
          </p:blipFill>
          <p:spPr>
            <a:xfrm>
              <a:off x="1936800" y="4975200"/>
              <a:ext cx="7621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2013120" y="5908680"/>
            <a:ext cx="6705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Crops: corn, soybeans, canola, co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 crops worldw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304920"/>
            <a:ext cx="7162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technology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676520" y="21337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Consumers -- More nutritious, healthier fo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End-Users -- Enhanced economic val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Growers -- More efficient production, expanded mark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Society -- Sustainable develop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Biotechnology Produc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295280"/>
            <a:ext cx="72388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oybeans with Herbicide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llows over the top application of herbi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roved weed control and 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t C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t - Bacillus Thuringien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aturally occurring soil bac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mercial biological insecticide since 19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ovides season-long protection from Corn Borer feeding/dam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to Far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120" y="2209680"/>
            <a:ext cx="63248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creased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duction in production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mproved grain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ivity For Co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1676520"/>
            <a:ext cx="9145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 Income/Ha        =       Mt/Ha       x       Price/Mt         -       Cost/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1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Yie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Value of Gr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Cost of Inpu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1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p Lo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its or Initiativ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ermplasm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High Oil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Bt/E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g Traits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Lysine/Methionine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CR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Low Phytate                    Herb.       Resi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                   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ndustrial Products        Disease Re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2160" y="20574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4480" y="20574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560" y="20574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6640" y="205740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4480" y="34290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560" y="34290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16640" y="3581280"/>
            <a:ext cx="180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73520" y="4343400"/>
            <a:ext cx="6000480" cy="16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00:16:11Z</dcterms:created>
  <dc:creator>Renato Jose S. Norte</dc:creator>
  <dc:description/>
  <dc:language>en-US</dc:language>
  <cp:lastModifiedBy>Tim Jobe</cp:lastModifiedBy>
  <cp:lastPrinted>2000-03-11T05:03:58Z</cp:lastPrinted>
  <dcterms:modified xsi:type="dcterms:W3CDTF">2000-03-29T19:51:22Z</dcterms:modified>
  <cp:revision>71</cp:revision>
  <dc:subject/>
  <dc:title>Public Awareness </dc:title>
</cp:coreProperties>
</file>