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0F737-D12A-4F50-9625-808D87254F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1177920" y="4343400"/>
            <a:ext cx="4370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103400" y="4836960"/>
            <a:ext cx="4637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103400" y="5433840"/>
            <a:ext cx="456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76480" y="6027840"/>
            <a:ext cx="448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103400" y="6699240"/>
            <a:ext cx="4637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103400" y="7294680"/>
            <a:ext cx="4637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176480" y="7888320"/>
            <a:ext cx="463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480" y="0"/>
            <a:ext cx="1060200" cy="684360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66680" y="-6480"/>
            <a:ext cx="300240" cy="685656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dupont" descr=""/>
          <p:cNvPicPr/>
          <p:nvPr/>
        </p:nvPicPr>
        <p:blipFill>
          <a:blip r:embed="rId2"/>
          <a:stretch/>
        </p:blipFill>
        <p:spPr>
          <a:xfrm>
            <a:off x="152280" y="428760"/>
            <a:ext cx="733680" cy="32364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76320" y="5610240"/>
            <a:ext cx="909360" cy="62712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4"/>
          <a:stretch/>
        </p:blipFill>
        <p:spPr>
          <a:xfrm>
            <a:off x="115920" y="1447920"/>
            <a:ext cx="798480" cy="349704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600" y="15238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nefits</a:t>
            </a:r>
            <a:br>
              <a:rPr sz="4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f</a:t>
            </a:r>
            <a:br>
              <a:rPr sz="2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otechnology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8120" y="5499000"/>
            <a:ext cx="43434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Hardeep S. Grew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SEA Regional Dir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Pioneer Hi-Bred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a DuPont Busines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2286000" y="152280"/>
            <a:ext cx="5715000" cy="13737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otechn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ercializ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UTURE POSSI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550960" y="1981080"/>
            <a:ext cx="515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Arial Rounded MT Bold"/>
              </a:rPr>
              <a:t>Ag-biotech Products for the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1752480" y="2666880"/>
            <a:ext cx="6251400" cy="3735360"/>
            <a:chOff x="1752480" y="2666880"/>
            <a:chExt cx="6251400" cy="3735360"/>
          </a:xfrm>
        </p:grpSpPr>
        <p:sp>
          <p:nvSpPr>
            <p:cNvPr id="127" name=""/>
            <p:cNvSpPr/>
            <p:nvPr/>
          </p:nvSpPr>
          <p:spPr>
            <a:xfrm>
              <a:off x="2361960" y="5410080"/>
              <a:ext cx="4876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V="1">
              <a:off x="2361960" y="2666880"/>
              <a:ext cx="0" cy="2743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438640" y="5562360"/>
              <a:ext cx="57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99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537000" y="5562360"/>
              <a:ext cx="57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0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72000" y="5562360"/>
              <a:ext cx="57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00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670720" y="5562360"/>
              <a:ext cx="57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00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3" name="isaa" descr=""/>
            <p:cNvPicPr/>
            <p:nvPr/>
          </p:nvPicPr>
          <p:blipFill>
            <a:blip r:embed="rId1"/>
            <a:stretch/>
          </p:blipFill>
          <p:spPr>
            <a:xfrm>
              <a:off x="1752480" y="5771880"/>
              <a:ext cx="761760" cy="62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Lines" descr=""/>
            <p:cNvPicPr/>
            <p:nvPr/>
          </p:nvPicPr>
          <p:blipFill>
            <a:blip r:embed="rId2"/>
            <a:stretch/>
          </p:blipFill>
          <p:spPr>
            <a:xfrm>
              <a:off x="3095280" y="3273120"/>
              <a:ext cx="3610080" cy="206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4969440" y="4495680"/>
              <a:ext cx="1241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66ff"/>
                  </a:solidFill>
                  <a:latin typeface="Arial Rounded MT Bold"/>
                </a:rPr>
                <a:t>Food Qualit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225320" y="5028840"/>
              <a:ext cx="1614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66ff"/>
                  </a:solidFill>
                  <a:latin typeface="Arial Rounded MT Bold"/>
                </a:rPr>
                <a:t>Agronomic Trai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81920" y="3657240"/>
              <a:ext cx="182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66ff"/>
                  </a:solidFill>
                  <a:latin typeface="Arial Rounded MT Bold"/>
                </a:rPr>
                <a:t>Specialty produc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489760" y="5943240"/>
              <a:ext cx="43624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Rounded MT Bold"/>
                </a:rPr>
                <a:t>Source: The Importance of Ag-biotech to Global Prosper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Rounded MT Bold"/>
                </a:rPr>
                <a:t>ISAAA Briefs -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 Rounded MT Bold"/>
                </a:rPr>
                <a:t>Anatole Krattig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981080" y="228600"/>
            <a:ext cx="6248520" cy="13737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tential benefit of biotechnology to small farm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Example: </a:t>
            </a:r>
            <a:r>
              <a:rPr b="0" i="1" lang="en-US" sz="2000" spc="-1" strike="noStrike">
                <a:solidFill>
                  <a:srgbClr val="3333cc"/>
                </a:solidFill>
                <a:latin typeface="Arial"/>
              </a:rPr>
              <a:t>Bt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Corn hyb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2308320"/>
            <a:ext cx="7086600" cy="353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685800" indent="-399960">
              <a:lnSpc>
                <a:spcPct val="120000"/>
              </a:lnSpc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Technology is affordable &amp; small-farmer friendly (technology is incorporated in the se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685800" indent="-399960">
              <a:lnSpc>
                <a:spcPct val="120000"/>
              </a:lnSpc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Increase harvest yield (additional 1 MT/ ha), thus increase profitabili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685800" indent="-399960">
              <a:lnSpc>
                <a:spcPct val="120000"/>
              </a:lnSpc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Ecologically benefi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343080">
              <a:lnSpc>
                <a:spcPct val="120000"/>
              </a:lnSpc>
              <a:buClr>
                <a:srgbClr val="3333cc"/>
              </a:buClr>
              <a:buSzPct val="60000"/>
              <a:buFont typeface="Wingdings" charset="2"/>
              <a:buChar char="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compatible with biological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685800" indent="-399960">
              <a:lnSpc>
                <a:spcPct val="100000"/>
              </a:lnSpc>
              <a:buClr>
                <a:srgbClr val="00808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447920" y="577800"/>
            <a:ext cx="739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sequences of non-adoption of biotechnolo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371600" y="2241720"/>
            <a:ext cx="7467480" cy="34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028880" indent="-514440">
              <a:lnSpc>
                <a:spcPct val="30000"/>
              </a:lnSpc>
              <a:buClr>
                <a:srgbClr val="3333cc"/>
              </a:buClr>
              <a:buSzPct val="9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880" indent="-514440">
              <a:lnSpc>
                <a:spcPct val="100000"/>
              </a:lnSpc>
              <a:buClr>
                <a:srgbClr val="3333cc"/>
              </a:buClr>
              <a:buSzPct val="9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mall farmers in Asia / Pacific risk become non-competitive in global agricultural produ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880" indent="-514440">
              <a:lnSpc>
                <a:spcPct val="50000"/>
              </a:lnSpc>
              <a:buClr>
                <a:srgbClr val="3333cc"/>
              </a:buClr>
              <a:buSzPct val="9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880" indent="-514440">
              <a:lnSpc>
                <a:spcPct val="100000"/>
              </a:lnSpc>
              <a:buClr>
                <a:srgbClr val="3333cc"/>
              </a:buClr>
              <a:buSzPct val="9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mall farmers in Asia / Pacific not be able to meet national food and feed requi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880" indent="-514440">
              <a:lnSpc>
                <a:spcPct val="50000"/>
              </a:lnSpc>
              <a:buClr>
                <a:srgbClr val="3333cc"/>
              </a:buClr>
              <a:buSzPct val="9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880" indent="-514440">
              <a:lnSpc>
                <a:spcPct val="100000"/>
              </a:lnSpc>
              <a:buClr>
                <a:srgbClr val="3333cc"/>
              </a:buClr>
              <a:buSzPct val="9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Unsustainable development of traditional cro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880" indent="-514440">
              <a:lnSpc>
                <a:spcPct val="50000"/>
              </a:lnSpc>
              <a:buClr>
                <a:srgbClr val="3333cc"/>
              </a:buClr>
              <a:buSzPct val="9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981080" y="228600"/>
            <a:ext cx="63248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iotechnolo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a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nace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447920" y="2824200"/>
            <a:ext cx="7315200" cy="357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571680" indent="-343080">
              <a:lnSpc>
                <a:spcPct val="100000"/>
              </a:lnSpc>
              <a:buClr>
                <a:srgbClr val="3333cc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Stable economic and political environ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857160">
              <a:lnSpc>
                <a:spcPct val="90000"/>
              </a:lnSpc>
              <a:buClr>
                <a:srgbClr val="3333cc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571680" indent="-343080">
              <a:lnSpc>
                <a:spcPct val="100000"/>
              </a:lnSpc>
              <a:buClr>
                <a:srgbClr val="3333cc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Vibrant feed and livestock s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857160">
              <a:lnSpc>
                <a:spcPct val="90000"/>
              </a:lnSpc>
              <a:buClr>
                <a:srgbClr val="3333cc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571680" indent="-343080">
              <a:lnSpc>
                <a:spcPct val="100000"/>
              </a:lnSpc>
              <a:buClr>
                <a:srgbClr val="3333cc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Trade liberalization of agricultural products and  ag-biotech 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857160">
              <a:lnSpc>
                <a:spcPct val="90000"/>
              </a:lnSpc>
              <a:buClr>
                <a:srgbClr val="3333cc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571680" indent="-343080">
              <a:lnSpc>
                <a:spcPct val="100000"/>
              </a:lnSpc>
              <a:buClr>
                <a:srgbClr val="3333cc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Investment in rural infrastructu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571680" indent="-343080">
              <a:lnSpc>
                <a:spcPct val="30000"/>
              </a:lnSpc>
              <a:buClr>
                <a:srgbClr val="3333cc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571680" indent="-343080">
              <a:lnSpc>
                <a:spcPct val="100000"/>
              </a:lnSpc>
              <a:buClr>
                <a:srgbClr val="3333cc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Access to credi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447920" y="2193840"/>
            <a:ext cx="74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For small farmers to be globally competitive they need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981080" y="228600"/>
            <a:ext cx="632484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Benefits to farm-based communitie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447920" y="1676520"/>
            <a:ext cx="7315200" cy="39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571680" indent="-343080">
              <a:lnSpc>
                <a:spcPct val="100000"/>
              </a:lnSpc>
              <a:buClr>
                <a:srgbClr val="3333cc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Papaya Biotechnology Network of S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857160">
              <a:lnSpc>
                <a:spcPct val="100000"/>
              </a:lnSpc>
              <a:buClr>
                <a:srgbClr val="3333cc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virus resistant technology (RSV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857160">
              <a:lnSpc>
                <a:spcPct val="100000"/>
              </a:lnSpc>
              <a:buClr>
                <a:srgbClr val="3333cc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delayed-ripening technolo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857160">
              <a:lnSpc>
                <a:spcPct val="90000"/>
              </a:lnSpc>
              <a:buClr>
                <a:srgbClr val="3333cc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571680" indent="-343080">
              <a:lnSpc>
                <a:spcPct val="100000"/>
              </a:lnSpc>
              <a:buClr>
                <a:srgbClr val="3333cc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Banana Project in Keny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857160">
              <a:lnSpc>
                <a:spcPct val="100000"/>
              </a:lnSpc>
              <a:buClr>
                <a:srgbClr val="3333cc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tissue culture techniq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857160">
              <a:lnSpc>
                <a:spcPct val="100000"/>
              </a:lnSpc>
              <a:buClr>
                <a:srgbClr val="3333cc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delayed-ripening technolo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857160">
              <a:lnSpc>
                <a:spcPct val="100000"/>
              </a:lnSpc>
              <a:buClr>
                <a:srgbClr val="3333cc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571680" indent="-343080">
              <a:lnSpc>
                <a:spcPct val="100000"/>
              </a:lnSpc>
              <a:buClr>
                <a:srgbClr val="3333cc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Tomato virus diagnostic project in Indonesi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571680" indent="-343080">
              <a:lnSpc>
                <a:spcPct val="100000"/>
              </a:lnSpc>
              <a:buClr>
                <a:srgbClr val="3333cc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571680" indent="-343080">
              <a:lnSpc>
                <a:spcPct val="100000"/>
              </a:lnSpc>
              <a:buClr>
                <a:srgbClr val="3333cc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Sweet potato / insect resistance project in Vietna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330640" y="6019920"/>
            <a:ext cx="5717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Source: New Partnerships for Prosperity: Building Public/Private Agri-Biotec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Networks for Resource Poor Farmers in SEA and Afric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ISAAA Biennial Report 1997-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isaa" descr=""/>
          <p:cNvPicPr/>
          <p:nvPr/>
        </p:nvPicPr>
        <p:blipFill>
          <a:blip r:embed="rId1"/>
          <a:stretch/>
        </p:blipFill>
        <p:spPr>
          <a:xfrm>
            <a:off x="1523880" y="6000840"/>
            <a:ext cx="762120" cy="6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otechnology Iss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676520" y="1828800"/>
            <a:ext cx="7238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Food Safety, labeling &amp; regul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Environmental impact &amp; bio-d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Consumer cho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Eth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PVP/IPR/Patents/”Freedom to Operat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Trade harmon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631880" y="76320"/>
            <a:ext cx="7359840" cy="13737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ustry Ag-Biotech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Thailan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636560" y="1752480"/>
          <a:ext cx="7126560" cy="4405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36560" y="1752480"/>
                    <a:ext cx="7126560" cy="44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600200" y="30456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rrent Stat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447920" y="1523520"/>
            <a:ext cx="73152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Biosafety guidelines developed in most of ASEAN count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Limited field test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No commercial produ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Increased workshops/symposia/hea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Increased media cove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600200" y="5105520"/>
            <a:ext cx="71629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ath to Commercialization is Unknown in ASEAN countr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523880" y="473040"/>
            <a:ext cx="73152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ccessful use of Biotechnolo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REQUIREMEN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523880" y="2057400"/>
            <a:ext cx="6553440" cy="455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571680" indent="-289080">
              <a:lnSpc>
                <a:spcPct val="100000"/>
              </a:lnSpc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Arial"/>
              </a:rPr>
              <a:t>Educational campaign for public awareness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users / consumers / regulators / facilitato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71680" indent="-289080">
              <a:lnSpc>
                <a:spcPct val="100000"/>
              </a:lnSpc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571680" indent="-289080">
              <a:lnSpc>
                <a:spcPct val="100000"/>
              </a:lnSpc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Arial"/>
              </a:rPr>
              <a:t>National policies which are consistent for the utilization of agricultural biotechnology product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571680" indent="-289080">
              <a:lnSpc>
                <a:spcPct val="100000"/>
              </a:lnSpc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30000"/>
              </a:lnSpc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571680" indent="-289080">
              <a:lnSpc>
                <a:spcPct val="100000"/>
              </a:lnSpc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Arial"/>
              </a:rPr>
              <a:t>Science-based approach for risk assessment / regulatory proces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571680" indent="-289080">
              <a:lnSpc>
                <a:spcPct val="100000"/>
              </a:lnSpc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"/>
              </a:lnSpc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571680" indent="-289080">
              <a:lnSpc>
                <a:spcPct val="100000"/>
              </a:lnSpc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571680" indent="-289080">
              <a:lnSpc>
                <a:spcPct val="100000"/>
              </a:lnSpc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676520" y="2112840"/>
            <a:ext cx="7162560" cy="45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571680" indent="-289080">
              <a:lnSpc>
                <a:spcPct val="100000"/>
              </a:lnSpc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Arial"/>
              </a:rPr>
              <a:t>Region-wide harmonization of regulatory requirements and commercialization protoco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571680" indent="-289080">
              <a:lnSpc>
                <a:spcPct val="100000"/>
              </a:lnSpc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571680" indent="-289080">
              <a:lnSpc>
                <a:spcPct val="100000"/>
              </a:lnSpc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Arial"/>
              </a:rPr>
              <a:t>Plant Variety Protection Law and appropriate trademark and patent law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571680" indent="-289080">
              <a:lnSpc>
                <a:spcPct val="100000"/>
              </a:lnSpc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571680" indent="-289080">
              <a:lnSpc>
                <a:spcPct val="100000"/>
              </a:lnSpc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Arial"/>
              </a:rPr>
              <a:t>Private / Public sector resources to fulfill these requirement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571680" indent="-289080">
              <a:lnSpc>
                <a:spcPct val="100000"/>
              </a:lnSpc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71680" indent="-289080">
              <a:lnSpc>
                <a:spcPct val="130000"/>
              </a:lnSpc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Arial"/>
              </a:rPr>
              <a:t>Private and public sector collabor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571680" indent="-289080">
              <a:lnSpc>
                <a:spcPct val="100000"/>
              </a:lnSpc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571680" indent="-289080">
              <a:lnSpc>
                <a:spcPct val="100000"/>
              </a:lnSpc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523880" y="473040"/>
            <a:ext cx="73152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ccessful use of Biotechnolo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REQUIREMEN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uPont's Biotechnology Princi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23880" y="2590920"/>
            <a:ext cx="73152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Adhere to highest ethical standard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Support informed consumer choic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Protection of the natural environm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Live product safet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uPont's Biotechnology Princi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057400" y="2057400"/>
            <a:ext cx="6553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  <a:ea typeface="ＭＳ 明朝"/>
              </a:rPr>
              <a:t>Practice biotechnology with the same safety standards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  <a:ea typeface="ＭＳ Ｐゴシック"/>
              </a:rPr>
              <a:t>raw material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ＭＳ 明朝"/>
              </a:rPr>
              <a:t>Nearly 200 years of experience in industrial safe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ＭＳ 明朝"/>
              </a:rPr>
              <a:t>Support rigorous testing and regulatory safeguards that carefully consider both human health and environmental protec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917800">
            <a:off x="185040" y="346680"/>
            <a:ext cx="8960040" cy="8958240"/>
          </a:xfrm>
          <a:prstGeom prst="blockArc">
            <a:avLst>
              <a:gd name="adj1" fmla="val 13737811"/>
              <a:gd name="adj2" fmla="val 18662189"/>
              <a:gd name="adj3" fmla="val 40153"/>
            </a:avLst>
          </a:prstGeom>
          <a:solidFill>
            <a:srgbClr val="ccffcc"/>
          </a:solidFill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9529400">
            <a:off x="185400" y="345600"/>
            <a:ext cx="8958240" cy="8958240"/>
          </a:xfrm>
          <a:prstGeom prst="blockArc">
            <a:avLst>
              <a:gd name="adj1" fmla="val 12891070"/>
              <a:gd name="adj2" fmla="val 19508930"/>
              <a:gd name="adj3" fmla="val 39356"/>
            </a:avLst>
          </a:prstGeom>
          <a:solidFill>
            <a:srgbClr val="3333cc"/>
          </a:solidFill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820800" y="4047840"/>
            <a:ext cx="3030480" cy="679320"/>
          </a:xfrm>
          <a:prstGeom prst="line">
            <a:avLst/>
          </a:prstGeom>
          <a:ln w="63360">
            <a:solidFill>
              <a:srgbClr val="00cc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5261040" y="2895120"/>
            <a:ext cx="2663640" cy="1616040"/>
          </a:xfrm>
          <a:prstGeom prst="line">
            <a:avLst/>
          </a:prstGeom>
          <a:ln w="63360">
            <a:solidFill>
              <a:srgbClr val="00cc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5025960" y="1728360"/>
            <a:ext cx="1766880" cy="2535480"/>
          </a:xfrm>
          <a:prstGeom prst="line">
            <a:avLst/>
          </a:prstGeom>
          <a:ln w="63360">
            <a:solidFill>
              <a:srgbClr val="00cc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4695840" y="1084320"/>
            <a:ext cx="552600" cy="3021120"/>
          </a:xfrm>
          <a:prstGeom prst="line">
            <a:avLst/>
          </a:prstGeom>
          <a:ln w="63360">
            <a:solidFill>
              <a:srgbClr val="00cc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 flipV="1">
            <a:off x="3497040" y="1141560"/>
            <a:ext cx="842760" cy="2976480"/>
          </a:xfrm>
          <a:prstGeom prst="line">
            <a:avLst/>
          </a:prstGeom>
          <a:ln w="63360">
            <a:solidFill>
              <a:srgbClr val="00cc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 flipV="1">
            <a:off x="1893960" y="2052360"/>
            <a:ext cx="2179440" cy="2268360"/>
          </a:xfrm>
          <a:prstGeom prst="line">
            <a:avLst/>
          </a:prstGeom>
          <a:ln w="63360">
            <a:solidFill>
              <a:srgbClr val="00cc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5305320" y="4087800"/>
            <a:ext cx="3076560" cy="665280"/>
          </a:xfrm>
          <a:prstGeom prst="line">
            <a:avLst/>
          </a:prstGeom>
          <a:ln w="63360">
            <a:solidFill>
              <a:srgbClr val="00cc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09800" y="1287360"/>
            <a:ext cx="7124400" cy="7124760"/>
          </a:xfrm>
          <a:prstGeom prst="blockArc">
            <a:avLst>
              <a:gd name="adj1" fmla="val 10800000"/>
              <a:gd name="adj2" fmla="val 0"/>
              <a:gd name="adj3" fmla="val 20722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554200" y="2876400"/>
            <a:ext cx="4065840" cy="3916440"/>
          </a:xfrm>
          <a:prstGeom prst="blockArc">
            <a:avLst>
              <a:gd name="adj1" fmla="val 10797091"/>
              <a:gd name="adj2" fmla="val 2909"/>
              <a:gd name="adj3" fmla="val 28111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9880" y="4087800"/>
            <a:ext cx="1524240" cy="16002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733920" y="4335480"/>
            <a:ext cx="167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cie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eservo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09800" y="5094360"/>
            <a:ext cx="7124400" cy="5936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9920" y="5154480"/>
            <a:ext cx="698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th    Physics    Chemistry    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Bi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rot="2246400">
            <a:off x="6754320" y="753840"/>
            <a:ext cx="191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00"/>
                </a:solidFill>
                <a:latin typeface="Arial"/>
              </a:rPr>
              <a:t>Marke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8941400">
            <a:off x="706680" y="1682280"/>
            <a:ext cx="214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Automo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20808000">
            <a:off x="2736360" y="691920"/>
            <a:ext cx="159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Hou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572400">
            <a:off x="4571280" y="672840"/>
            <a:ext cx="150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Appar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2284200">
            <a:off x="5983920" y="1439640"/>
            <a:ext cx="207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8000"/>
                </a:solidFill>
                <a:latin typeface="Arial"/>
              </a:rPr>
              <a:t>Agricul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 rot="17342400">
            <a:off x="-363240" y="3593520"/>
            <a:ext cx="209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Electron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rot="3518400">
            <a:off x="7636320" y="2678400"/>
            <a:ext cx="104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8000"/>
                </a:solidFill>
                <a:latin typeface="Arial"/>
              </a:rPr>
              <a:t>Fo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135440" y="3862440"/>
            <a:ext cx="141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808080"/>
                </a:solidFill>
                <a:latin typeface="Arial"/>
              </a:rPr>
              <a:t>Electron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808080"/>
                </a:solidFill>
                <a:latin typeface="Arial"/>
              </a:rPr>
              <a:t>Materi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561400" y="1843200"/>
            <a:ext cx="132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808080"/>
                </a:solidFill>
                <a:latin typeface="Arial"/>
              </a:rPr>
              <a:t>Polym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236120" y="1401840"/>
            <a:ext cx="94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808080"/>
                </a:solidFill>
                <a:latin typeface="Arial"/>
              </a:rPr>
              <a:t>Fi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692720" y="2649600"/>
            <a:ext cx="127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808080"/>
                </a:solidFill>
                <a:latin typeface="Arial"/>
              </a:rPr>
              <a:t>Coat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396440" y="3236760"/>
            <a:ext cx="8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808080"/>
                </a:solidFill>
                <a:latin typeface="Arial"/>
              </a:rPr>
              <a:t>Fil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387760" y="1814400"/>
            <a:ext cx="1649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808080"/>
                </a:solidFill>
                <a:latin typeface="Arial"/>
              </a:rPr>
              <a:t>      </a:t>
            </a:r>
            <a:r>
              <a:rPr b="1" i="1" lang="en-US" sz="2000" spc="-1" strike="noStrike">
                <a:solidFill>
                  <a:srgbClr val="808080"/>
                </a:solidFill>
                <a:latin typeface="Arial"/>
              </a:rPr>
              <a:t>Cr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808080"/>
                </a:solidFill>
                <a:latin typeface="Arial"/>
              </a:rPr>
              <a:t>   </a:t>
            </a:r>
            <a:r>
              <a:rPr b="1" i="1" lang="en-US" sz="2000" spc="-1" strike="noStrike">
                <a:solidFill>
                  <a:srgbClr val="808080"/>
                </a:solidFill>
                <a:latin typeface="Arial"/>
              </a:rPr>
              <a:t>Prot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422760" y="2557440"/>
            <a:ext cx="9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808080"/>
                </a:solidFill>
                <a:latin typeface="Arial"/>
              </a:rPr>
              <a:t>See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63320" y="3408480"/>
            <a:ext cx="119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808080"/>
                </a:solidFill>
                <a:latin typeface="Arial"/>
              </a:rPr>
              <a:t>Protei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693120" y="2954160"/>
            <a:ext cx="98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808080"/>
                </a:solidFill>
                <a:latin typeface="Arial"/>
              </a:rPr>
              <a:t>Grai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949440" y="4259160"/>
            <a:ext cx="111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808080"/>
                </a:solidFill>
                <a:latin typeface="Arial"/>
              </a:rPr>
              <a:t>Phar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426520" y="1747800"/>
            <a:ext cx="353880" cy="5112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6319800" y="345600"/>
            <a:ext cx="557280" cy="25092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 rot="21570600">
            <a:off x="5168880" y="3236400"/>
            <a:ext cx="1666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1" i="1" lang="en-US" sz="2800" spc="-1" strike="noStrike">
                <a:solidFill>
                  <a:srgbClr val="808080"/>
                </a:solidFill>
                <a:latin typeface="Arial"/>
              </a:rPr>
              <a:t>Ag &amp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8080"/>
                </a:solidFill>
                <a:latin typeface="Arial"/>
              </a:rPr>
              <a:t>Nutrition</a:t>
            </a:r>
            <a:r>
              <a:rPr b="1" i="1" lang="en-US" sz="2800" spc="-1" strike="noStrike">
                <a:solidFill>
                  <a:srgbClr val="66ff33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56280" y="5040360"/>
            <a:ext cx="1452600" cy="666720"/>
          </a:xfrm>
          <a:prstGeom prst="ellipse">
            <a:avLst/>
          </a:prstGeom>
          <a:noFill/>
          <a:ln w="507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26040" y="3198960"/>
            <a:ext cx="1666800" cy="1180800"/>
          </a:xfrm>
          <a:prstGeom prst="ellipse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67520" y="5867280"/>
            <a:ext cx="595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00"/>
                </a:solidFill>
                <a:uFillTx/>
                <a:latin typeface="Arial Narrow"/>
              </a:rPr>
              <a:t>Biology - A Powerful 4th Science . .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5439960" y="3708360"/>
            <a:ext cx="3551400" cy="92700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rot="4594200">
            <a:off x="7931160" y="3871800"/>
            <a:ext cx="126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8000"/>
                </a:solidFill>
                <a:latin typeface="Arial"/>
              </a:rPr>
              <a:t>Heal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910040" y="655560"/>
            <a:ext cx="1333440" cy="334512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 rot="19396800">
            <a:off x="3181320" y="3593880"/>
            <a:ext cx="1760400" cy="8571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969696"/>
                </a:solidFill>
                <a:latin typeface="Arial Black"/>
              </a:rPr>
              <a:t>Technology</a:t>
            </a:r>
            <a:endParaRPr b="0" lang="en-US" sz="2400" spc="1" strike="noStrike">
              <a:ln w="0">
                <a:noFill/>
              </a:ln>
              <a:solidFill>
                <a:srgbClr val="969696"/>
              </a:solidFill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37400" y="4218120"/>
            <a:ext cx="1452600" cy="520560"/>
          </a:xfrm>
          <a:prstGeom prst="ellipse">
            <a:avLst/>
          </a:prstGeom>
          <a:noFill/>
          <a:ln w="507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631880" y="76320"/>
            <a:ext cx="7359840" cy="13737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otechn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erci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97 - 19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149560" y="1676520"/>
            <a:ext cx="382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Global Area of Transgenic Cro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(millions of hectar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1936800" y="2327400"/>
            <a:ext cx="6095880" cy="3276360"/>
            <a:chOff x="1936800" y="2327400"/>
            <a:chExt cx="6095880" cy="3276360"/>
          </a:xfrm>
        </p:grpSpPr>
        <p:graphicFrame>
          <p:nvGraphicFramePr>
            <p:cNvPr id="103" name=""/>
            <p:cNvGraphicFramePr/>
            <p:nvPr/>
          </p:nvGraphicFramePr>
          <p:xfrm>
            <a:off x="2241720" y="2327400"/>
            <a:ext cx="5790960" cy="248904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0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41720" y="2327400"/>
                      <a:ext cx="5790960" cy="2489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5" name=""/>
            <p:cNvSpPr/>
            <p:nvPr/>
          </p:nvSpPr>
          <p:spPr>
            <a:xfrm>
              <a:off x="2710440" y="5070600"/>
              <a:ext cx="48502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Rounded MT Bold"/>
                </a:rPr>
                <a:t>Source: Global Review of Commercialized Transgenic Crops: 199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Rounded MT Bold"/>
                </a:rPr>
                <a:t>ISAAA Briefs -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 Rounded MT Bold"/>
                </a:rPr>
                <a:t>Clive Jam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6" name="isaa" descr=""/>
            <p:cNvPicPr/>
            <p:nvPr/>
          </p:nvPicPr>
          <p:blipFill>
            <a:blip r:embed="rId3"/>
            <a:stretch/>
          </p:blipFill>
          <p:spPr>
            <a:xfrm>
              <a:off x="1936800" y="4975200"/>
              <a:ext cx="762120" cy="628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" name=""/>
          <p:cNvSpPr/>
          <p:nvPr/>
        </p:nvSpPr>
        <p:spPr>
          <a:xfrm>
            <a:off x="2013120" y="5908680"/>
            <a:ext cx="670536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jor Crops: corn, soybeans, canola, cott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2 crops worldwid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676520" y="304920"/>
            <a:ext cx="716256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iotechnology Val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676520" y="213372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Arial"/>
              </a:rPr>
              <a:t>Consumers -- More nutritious, healthier foo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Arial"/>
              </a:rPr>
              <a:t>End-Users -- Enhanced economic valu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Arial"/>
              </a:rPr>
              <a:t>Growers -- More efficient production, expanded marke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Arial"/>
              </a:rPr>
              <a:t>Society -- Sustainable develop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ey Biotechnology Product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600200" y="1295280"/>
            <a:ext cx="723888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1749"/>
              </a:spcBef>
              <a:buClr>
                <a:srgbClr val="3333cc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oybeans with Herbicide Resis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3333cc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Allows over the top application of herbic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3333cc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Improved weed control and flexi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3333cc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Bt Co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60000"/>
              </a:lnSpc>
              <a:spcBef>
                <a:spcPts val="1500"/>
              </a:spcBef>
              <a:buClr>
                <a:srgbClr val="3333cc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Bt - Bacillus Thuringien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60000"/>
              </a:lnSpc>
              <a:spcBef>
                <a:spcPts val="1250"/>
              </a:spcBef>
              <a:buClr>
                <a:srgbClr val="3333cc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naturally occurring soil bacte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commercial biological insecticide since 193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3333cc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Provides season-long protection from Corn Borer feeding/dama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lue to Farm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752120" y="2209680"/>
            <a:ext cx="632484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001"/>
              </a:spcBef>
              <a:buClr>
                <a:srgbClr val="3333cc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Increased yie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buClr>
                <a:srgbClr val="3333cc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Reduction in production c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buClr>
                <a:srgbClr val="3333cc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Improved grain qua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685800" y="2286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ductivity For Cor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52280" y="1676520"/>
            <a:ext cx="914580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t Income/Ha        =       Mt/Ha       x       Price/Mt         -       Cost/H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ts val="15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ts val="15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tivit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Yiel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Value of Grai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Cost of Input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ts val="15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op Lo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ts val="15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aits or Initiative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Germplasm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   High Oil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       Bt/EC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Ag Traits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   Lysine/Methionine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       CR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Low Phytate                    Herb.       Resist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                                        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Industrial Products        Disease Resist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92160" y="2057400"/>
            <a:ext cx="1440" cy="6094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354480" y="2057400"/>
            <a:ext cx="1440" cy="6094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335560" y="2057400"/>
            <a:ext cx="1440" cy="6094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316640" y="2057400"/>
            <a:ext cx="1800" cy="6094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354480" y="3429000"/>
            <a:ext cx="1440" cy="6094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35560" y="3429000"/>
            <a:ext cx="1440" cy="6094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316640" y="3581280"/>
            <a:ext cx="1800" cy="4572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873520" y="4343400"/>
            <a:ext cx="6000480" cy="1676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4T00:16:11Z</dcterms:created>
  <dc:creator>Renato Jose S. Norte</dc:creator>
  <dc:description/>
  <dc:language>en-US</dc:language>
  <cp:lastModifiedBy>Tim Jobe</cp:lastModifiedBy>
  <cp:lastPrinted>2000-03-11T05:03:58Z</cp:lastPrinted>
  <dcterms:modified xsi:type="dcterms:W3CDTF">2000-03-29T19:51:22Z</dcterms:modified>
  <cp:revision>71</cp:revision>
  <dc:subject/>
  <dc:title>Public Awareness </dc:title>
</cp:coreProperties>
</file>