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9545-7E09-4D1E-BD2B-9F2C39182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I would just like to thank PBEC and all the sponsors of this conference for the opportunity to be here today -- although I have to say that the honor is a somewhat dubious one given that I only have 15 minutes to say something at least somewhat relevant about a set of trade rules that have been literally years in the making and the subject of intense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ur time constraints, my presentation today certainly will not be a comprehensive legal analysis.  Far from it.  I hope only to to provide a thumb nail sketch of the various regulatory structures in place that might apply to biotechnology so that we can at least have a starting point from which to address these regulatory issues more closely later during today’s break out sessions and over the course of this confere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o over simplify because these provisions were also contentious but generally the Protocol exemp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meat” of the protocol, an its primary controlling authority if you will, centers on the accord’s Advance Informed Agreement procedures.  Under the AIA procedures of the Protocol, exporters of bioenhnaced products that are intended for release into the environment such as seeds, must notify the importing country in writing of the planned shipment.  The notification must include information regarding the identity of the bioenhanced product the intended dates of shipment and the technique used to produced the product, among several other informatio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notified, the importer generally has up to 90 days to acknowledge the receipt of the notification and up to 270 days to approve or prohibit the proposed import or to request additional information regarding the product.  The Protocol includes an annex delineating risk assessment procedures to assist developing countries that do not have in place their own regulatory structures to evaluate the safety of a particular LMO and whether or not to allow it to cross the country’s 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hipment is approved, the Protocol establishes that affected shipments be accompanies by documentation that clearly identifies the product as an LMO and describes  the characteristics of the product and any requirements for the safe handling, storage and transport of the produ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 have dramatically simplified the AIA procedures for the sake of time, but now I’ll complicate things a little my noting that the Protocol carves out a distinct set of different rules governing trade in commodities that are somewhat more simple than the AIA requirements affecting other LMOs.  These procedures generally apply only to the first transboundary shipment of an LMO commodity into an importing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procedures also require somewhat less extensive information for the notification.  However, the decision making process that the importer employs to determine whether or not to accept the commodity LMO is much the same as those developed under the AIA requirements.  Ultimate decision must be based on a risk assessment as described in the Protocol or under existing domestic regulations compatible with the Protocol and be made within 27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ments of commodity LMOs must be labeled as “may contain LMOs”, although LMO specific labeling of commodities will not be required.  However, this issue will be revisited in two years after the Protocol takes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alled precautionary language is incorporated in the Protocol in a number of places including in the AIA requirements and the simplified procedures for commodities.  This language adds an element of ambiguity regarding the criteria that countries can use to block an import of a particular L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ense it allows countries a loophole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debated extensively and I will not attempt to dissect that debate here.  Although I would expect that we will hear more about the Precautionary principle during our lunch session, since it is an issue of primary concern in terms of how the Protocol is implemented and the effect that it might have on international trade in products of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ertainly revisit this issue during the break out sessions later this afternoon since how the precautionary principle is applied could have a tremendous barring on the prospects for the development of biotechnology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ending a discussion of the biosafety protocol, I think it also important to note that there is language in the accord that helps to mitigate potentially trade distorting implementation of the precautionary principl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ular text of the Biosafety Protocol states that the Protocol shall not be interpreted as implying a change in the rights and obligations of any Party under existing international agreements.  Read the 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vings clause then helps to mitigate some of the ambiguity introduced into the Protocol by inclusion of precautionary principle language.  It also offers LMO exporting countries the opportunity  to challenge any  unscientific import bans on LMOs with standard WTO dispute resolution procedures under either the SPS agreement or other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should be noted here, that the SPS agreement itself includes a level of precautionary language, but this language is phrased in a way that requires WTO members to justify any trade restricting SPS measures by sound science (explain further the SPS language).  In other words, simply hiding behind ignorance as a justification for a trade restriction is not a long term option should another WTO member seek to challenge the barrier under the S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ow have come full circle back to the WTO agreements I started with today.  When taken together, I would argue that despite the novelty of biotechnology, there are international trade rules in place today or soon to be online that can accommodate thes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thing is this straight forward and policy advocates on both sides of the debate are already at each others throats locked in contentious debates over the minutia of the agreements that I have discu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ersonally am no Polly Anna when looking at this issue and I like many others recognize some of the inherent weaknesses in the regulatory structures I have so briefly reviewed today.  But I also think that there is a basis here upon which we can eventually develop a workable framework of trade rules that protects the the world’s precious environmental resources and human health, while at the same time creating a predictable trading environment that allows all countries of the Asia-Pacific and the rest of the world to reap the tremendous benefits that biotechnology has to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in the break out sessions that follow this afternoon we can begin to take at least a small step towards realizing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 have lowered expectations (I hope sufficiently) I’d like to start first with WTO rules since these provisions, I would argue, must be central to any discussion we have today regarding the development of a sound regulatory framework for bio-enhanced food products, or any other products for tha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won’t find the word “biotechnology” anywhere in the final text of the Uruguay Round implementing act, I would suggest that at least four of the key WTO agreements (list them) have a relevance to biotechnology.  Of these, I think the SPS agreement has particular relevance and I’d like to devote additional time to discuss this important agreement later in my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irst, let’s begin by focusing on the most obviously relevant agreement, the Agreement on agriculture.  In a nut shell, the WTO Agreement on Agriculture covers: (refer to slide). The agreement binds tariffs on ag products, with reductions of at least 15% for virtually all tariff lines over the roughly 10-year implementation period.  Some special arrangements established for particularly sensitive products like rice (Japan and Korea).</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upports were subject to caps and WTO members agreed to seek reductions in these supports.  The Agreement also calls for the reduction in export subsidies Developed countries were required to implement all of the disciplines contained in the agreement by January 1, 2000.  Developing countries have until January 1, 2004 to fully implement the agreement’s commitments.</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biotechnology is not mentioned directly in the agreement since it was only in its infancy at the time the UR agreement was negotiated, I would argue that the product specific orientation of the accord makes it apply equally to products of biotechnology.  Currently, biotechnology products are not differentiated in the Harmonized Tariff schedule so all of these provisions would appear to apply. So subsidies issues must also be taken into account as governments work to support their own biotechnology industries. (cue animation) </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to keep in mind with regard to the Ag agreement,  the accord is set for renegotiation and there will be the opprotunity to address biotechnology etc. The key will be to ensure that products of biotechnology are afforded the same protections as other agricultural produ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rade related Aspects of intellectual property protection sets minimum standards of protection for intellectual property and includes provisions concerning domestic procedures for the enforcement of IPR protections.  The agreement also makes intellectual property disputes among WTO members actionable under the broader WTO dispute re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ts relation to biotechnology, the TRIPs agreement’s provisions on patents are most relevant.  These provisions generally require WTO member countries to make patents available for any invention -- without discrimination as to the field of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rticle 27.3.b allows countries to exclude from patentability “plants and animals other than microorganisms, and essentially biological processes for the production of plants and animals other than non-biological and microbiologic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the agreement does require members to provide for the protection of new plants either by patents or by an effective suI generis system or combina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s in in the process of review as is Article 27.3.b as are discussions on what constitutes an appropriate sui generis system for IPR protection for pl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 agreement acknowledges the right of countries to develop product regulations and standards and gives WTO members a wide degree of flexibility in how they implement these regulations.  The TBT states that no country should be prevented from taking measures necessary  to protect human animal or plat life at the level it considers appropriate.  However, this is qualified by separate provisions in the agreement that state that WTO members should not adopt or apply regulations “with a view to, or with the effect of, creating unnecessary obstacle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somewhat ambiguous language, the TBT is regarded as one of the weaker WTO accords.  Since taking affect, the agreement primarily has served as a focus of technical consultations among WTO members  and to date has not been used as a mechanism for launching formal WTO challenges to specific technical barriers to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provisions in the agreement related to measures aimed at protecting the environment (Article 2.2) may bring this accord into play in the biotech context.  Likewise, the United States in particular has expressed concern regarding several countries notification under the TBT of new labeling initiatives for products of biotechnology and labeling concerns may very well bring the TBT into into the policy debate on biotechnology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he Application of Sanitary and Phytosanitary Measures is designed to maintain the right of any WTO member to provide the level of health protection for its citizens that it deems appropriate, while also ensuring that these rights are not used for protectionist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me argument as to whether the SPS agreement is relevant to biotechnology since the term biotechnology is not included in the definitional annex accompanying the SPS accord, but I would contend that the risk-based focus of the accord makes it equally applicable to products of biotechnology.  For instance, countries that impose a restrictive measure on a product of biotechnology presumably would have to offer a justification for the measure based on a real or perceived risk factor.  In other words, the restrictive measure would not be prodcut specific per se, but risk specific.  Since many of the same potential risks apply to biotechnology as conventionally grown agricultural products like: levels of pesticide residues, introduction of allergens, introduction of contaminants, issues associated with pesticide resistance.  I would argue that the SPS applies equally to biotechnology and the majority of trade experts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ing this rationale, SPS agreement provides a clear basis for WTO members to challenge other member’s SPS measures imposed against bioenhanced products as appropriate.  These challenges would trigger formal proceedings under standard WTO dispute resolu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successful challenge of the EU ban on hormone treated beef is illustrative of the effectiveness of the SPS Agreement in providing an avenue of recourse in cases where a particular WTO member imposes a non-scientific SPS restriction.  Although I am sure you would get some argument from the EU on the WTO’s findings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I must note that the SPS has not been tested as a possible tool to press the EU to alter its approval process for products of biotechnology for instance.  Mention the EU approval process and how U.S. officials are looking at this.  (explain noting that this is primarily do to the fact that the EU technically does have an approval process in place for products of biotechnology -- it simply is taking too long to implement.)  Our argument would be reason for the delay not based on science and therefore actionable under 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ack of time prevents a more technical discussion of this issue, but suffice to say U.S. trade  officials are looking closely at the SPS agreement as a means of addressing EU biotech restrictions if another solution does not devel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WTO rules I have just been discussing, another instrument for regulating trade in bioenhanced living modified organisms or LMOs is the recently concluded Biosafety Protocol agreed in Montreal earlier in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d under the Convention on Biodiversity, of which the United States is not a signatory, the Biosafety protocol will be open for signature in mid-May and will require ratification by at least 50 signatories prior to entering into force, most likely late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some assertions, the Biosafety Protocol does not create extensive new regulatory requirements in advanced countries that currently have in place biotechnology regulatory structures.  However, the Protocol will provide guidelines for developing countries that do not have current biotech regulations in place, helping them to create such a regulator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SP negotiations were highly controversial and the end products is certainly  a compromise -- the Protocol is biased toward controlling rather than facilitating trade in biotechnology and concerns have been raised about many of its provisions on all sides  (later today at lunch I expect that we will hear more about these concerns)  But for now given the brief time I have left, I would like only to touch briefly on some of the provisions of the Protocol without making too many value judgements which we can get into later today in our break ou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on scope in the Protocol was a hot topic of debate as I’ll discuss later.  But in general this is a simplified description of the BSP scope.  In short, the full provisions of the  Protocol are meant to cover bioenhanced seeds and living plants etc, that are destined for introduction in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or LMOs intended for direct use as food, feed or processing are covered by separate provisions of the Protocol which I will discuss in a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9CF51-9D62-4814-98C9-47E84C0E3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F8C89-D1CD-4EE4-9358-974EB4FD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023CC-2E4B-496B-96F6-5C771E7E8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F8071-E43B-4E02-9A0B-AE2FE1F38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F4BC5-9D4B-47A8-BAC8-8FA1ABA7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7777-251B-4824-A3C9-132B8AE3B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15658-81D9-4262-A3F1-71BC11F9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C9DF-8D66-4D3B-AA67-6A15625F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7957-E777-4E7B-A955-06F0F2FF7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D42F-DFED-446D-B443-9D0E7AAB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11E9E-3586-48A9-AA2F-E4F9638DC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D10E-A5B1-48FE-8D83-D72A3576F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85C9-4C8B-4893-B250-BB465C700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467480" y="3200400"/>
            <a:ext cx="673200" cy="1447920"/>
          </a:xfrm>
          <a:prstGeom prst="rect">
            <a:avLst/>
          </a:prstGeom>
          <a:ln w="0">
            <a:noFill/>
          </a:ln>
        </p:spPr>
      </p:pic>
      <p:pic>
        <p:nvPicPr>
          <p:cNvPr id="49" name="" descr=""/>
          <p:cNvPicPr/>
          <p:nvPr/>
        </p:nvPicPr>
        <p:blipFill>
          <a:blip r:embed="rId2"/>
          <a:stretch/>
        </p:blipFill>
        <p:spPr>
          <a:xfrm>
            <a:off x="6534000" y="4648320"/>
            <a:ext cx="2610000" cy="1920600"/>
          </a:xfrm>
          <a:prstGeom prst="rect">
            <a:avLst/>
          </a:prstGeom>
          <a:ln w="0">
            <a:noFill/>
          </a:ln>
        </p:spPr>
      </p:pic>
      <p:sp>
        <p:nvSpPr>
          <p:cNvPr id="5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5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TO Rules and the Biosafety Protoc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Exemptions from Coverage</a:t>
            </a:r>
            <a:endParaRPr b="0" lang="en-US" sz="4400" spc="-1" strike="noStrike">
              <a:solidFill>
                <a:srgbClr val="0000ff"/>
              </a:solidFill>
              <a:latin typeface="Times New Roman"/>
            </a:endParaRPr>
          </a:p>
        </p:txBody>
      </p:sp>
      <p:sp>
        <p:nvSpPr>
          <p:cNvPr id="8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euticals for humans that are addressed by other international agreement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contained use, defined as use within a facility, installation or other physical structure that effectively limits their contact with the external environment.</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8381880" y="4724280"/>
            <a:ext cx="271440" cy="762120"/>
          </a:xfrm>
          <a:prstGeom prst="rect">
            <a:avLst/>
          </a:prstGeom>
          <a:ln w="0">
            <a:noFill/>
          </a:ln>
        </p:spPr>
      </p:pic>
      <p:pic>
        <p:nvPicPr>
          <p:cNvPr id="8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IA Requirements</a:t>
            </a:r>
            <a:endParaRPr b="0" lang="en-US" sz="4400" spc="-1" strike="noStrike">
              <a:solidFill>
                <a:srgbClr val="0000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 establishes Advance Informed Agreement (AIA) procedures that requ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 and Decision-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8381880" y="4724280"/>
            <a:ext cx="271440" cy="762120"/>
          </a:xfrm>
          <a:prstGeom prst="rect">
            <a:avLst/>
          </a:prstGeom>
          <a:ln w="0">
            <a:noFill/>
          </a:ln>
        </p:spPr>
      </p:pic>
      <p:pic>
        <p:nvPicPr>
          <p:cNvPr id="9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ommodities</a:t>
            </a:r>
            <a:endParaRPr b="0" lang="en-US" sz="4400" spc="-1" strike="noStrike">
              <a:solidFill>
                <a:srgbClr val="0000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direct use as food, feed or for processing are exempt from the AIA requirements of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commodities are subject to simplified notification and approv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dity shipments must be labeled as “may contain” LMO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8381880" y="4724280"/>
            <a:ext cx="271440" cy="762120"/>
          </a:xfrm>
          <a:prstGeom prst="rect">
            <a:avLst/>
          </a:prstGeom>
          <a:ln w="0">
            <a:noFill/>
          </a:ln>
        </p:spPr>
      </p:pic>
      <p:pic>
        <p:nvPicPr>
          <p:cNvPr id="9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recautionary Principle</a:t>
            </a:r>
            <a:endParaRPr b="0" lang="en-US" sz="4400" spc="-1" strike="noStrike">
              <a:solidFill>
                <a:srgbClr val="0000ff"/>
              </a:solidFill>
              <a:latin typeface="Times New Roman"/>
            </a:endParaRPr>
          </a:p>
        </p:txBody>
      </p:sp>
      <p:sp>
        <p:nvSpPr>
          <p:cNvPr id="99"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d both in the AIA requirements and in the simplified procedures applied to commodities.</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Lack of scientific certainty due to insufficient relevant scientific information …shall not prevent [parties to the Protocol] from taking a decision, as appropriate, with regard to the import of [a] LMO …</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8381880" y="4724280"/>
            <a:ext cx="271440" cy="762120"/>
          </a:xfrm>
          <a:prstGeom prst="rect">
            <a:avLst/>
          </a:prstGeom>
          <a:ln w="0">
            <a:noFill/>
          </a:ln>
        </p:spPr>
      </p:pic>
      <p:pic>
        <p:nvPicPr>
          <p:cNvPr id="101"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avings Clause</a:t>
            </a:r>
            <a:endParaRPr b="0" lang="en-US" sz="4400" spc="-1" strike="noStrike">
              <a:solidFill>
                <a:srgbClr val="0000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ambular language in the B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This Protocol shall not be interpreted as implying a change in the rights and obligations of a Party under any existing international agreement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8381880" y="4724280"/>
            <a:ext cx="271440" cy="762120"/>
          </a:xfrm>
          <a:prstGeom prst="rect">
            <a:avLst/>
          </a:prstGeom>
          <a:ln w="0">
            <a:noFill/>
          </a:ln>
        </p:spPr>
      </p:pic>
      <p:pic>
        <p:nvPicPr>
          <p:cNvPr id="10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 Workable Framework</a:t>
            </a:r>
            <a:endParaRPr b="0" lang="en-US" sz="4400" spc="-1" strike="noStrike">
              <a:solidFill>
                <a:srgbClr val="0000ff"/>
              </a:solidFill>
              <a:latin typeface="Times New Roman"/>
            </a:endParaRPr>
          </a:p>
        </p:txBody>
      </p:sp>
      <p:sp>
        <p:nvSpPr>
          <p:cNvPr id="107"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amework to regulate trade in and cross- border movement of bioenhanced organisms is in place and is being refin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ramework can be workable, but only if policymakers approach implementation of these regulations with vision and in a way that seeks transparency and predictability.</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8381880" y="4724280"/>
            <a:ext cx="271440" cy="762120"/>
          </a:xfrm>
          <a:prstGeom prst="rect">
            <a:avLst/>
          </a:prstGeom>
          <a:ln w="0">
            <a:noFill/>
          </a:ln>
        </p:spPr>
      </p:pic>
      <p:pic>
        <p:nvPicPr>
          <p:cNvPr id="10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9360">
            <a:solidFill>
              <a:srgbClr val="cc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levant WTO Accords</a:t>
            </a:r>
            <a:endParaRPr b="0" lang="en-US" sz="4400" spc="-1" strike="noStrike">
              <a:solidFill>
                <a:srgbClr val="0000ff"/>
              </a:solidFill>
              <a:latin typeface="Times New Roman"/>
            </a:endParaRPr>
          </a:p>
        </p:txBody>
      </p:sp>
      <p:sp>
        <p:nvSpPr>
          <p:cNvPr id="53"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Agricultur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echnical Barriers to Trade (TB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rade-Related Aspects of Intellectual Property Protection (TRIPs)</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8381880" y="4724280"/>
            <a:ext cx="271440" cy="762120"/>
          </a:xfrm>
          <a:prstGeom prst="rect">
            <a:avLst/>
          </a:prstGeom>
          <a:ln w="0">
            <a:noFill/>
          </a:ln>
        </p:spPr>
      </p:pic>
      <p:pic>
        <p:nvPicPr>
          <p:cNvPr id="55" name="" descr=""/>
          <p:cNvPicPr/>
          <p:nvPr/>
        </p:nvPicPr>
        <p:blipFill>
          <a:blip r:embed="rId2"/>
          <a:stretch/>
        </p:blipFill>
        <p:spPr>
          <a:xfrm>
            <a:off x="7897680" y="5486400"/>
            <a:ext cx="1246320" cy="1101600"/>
          </a:xfrm>
          <a:prstGeom prst="rect">
            <a:avLst/>
          </a:prstGeom>
          <a:ln w="0">
            <a:noFill/>
          </a:ln>
        </p:spPr>
      </p:pic>
      <p:sp>
        <p:nvSpPr>
          <p:cNvPr id="56" name=""/>
          <p:cNvSpPr/>
          <p:nvPr/>
        </p:nvSpPr>
        <p:spPr>
          <a:xfrm>
            <a:off x="1295280" y="5334120"/>
            <a:ext cx="5562720" cy="703440"/>
          </a:xfrm>
          <a:prstGeom prst="rect">
            <a:avLst/>
          </a:prstGeom>
          <a:noFill/>
          <a:ln w="0">
            <a:noFill/>
          </a:ln>
        </p:spPr>
        <p:style>
          <a:lnRef idx="0"/>
          <a:fillRef idx="0"/>
          <a:effectRef idx="0"/>
          <a:fontRef idx="minor"/>
        </p:style>
        <p:txBody>
          <a:bodyPr lIns="90000" rIns="90000" tIns="46800" bIns="46800" anchor="t">
            <a:spAutoFit/>
          </a:bodyPr>
          <a:p>
            <a:pPr>
              <a:buClr>
                <a:srgbClr val="ff6600"/>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The SPS Agre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greement on Agriculture</a:t>
            </a:r>
            <a:endParaRPr b="0" lang="en-US" sz="4400" spc="-1" strike="noStrike">
              <a:solidFill>
                <a:srgbClr val="0000ff"/>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TO Agreement on Agriculture is product-based, cove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Sup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Subsid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8373960" y="4724280"/>
            <a:ext cx="271440" cy="762120"/>
          </a:xfrm>
          <a:prstGeom prst="rect">
            <a:avLst/>
          </a:prstGeom>
          <a:ln w="0">
            <a:noFill/>
          </a:ln>
        </p:spPr>
      </p:pic>
      <p:pic>
        <p:nvPicPr>
          <p:cNvPr id="60" name="" descr=""/>
          <p:cNvPicPr/>
          <p:nvPr/>
        </p:nvPicPr>
        <p:blipFill>
          <a:blip r:embed="rId2"/>
          <a:stretch/>
        </p:blipFill>
        <p:spPr>
          <a:xfrm>
            <a:off x="7889760" y="5486400"/>
            <a:ext cx="1246320" cy="1101600"/>
          </a:xfrm>
          <a:prstGeom prst="rect">
            <a:avLst/>
          </a:prstGeom>
          <a:ln w="0">
            <a:noFill/>
          </a:ln>
        </p:spPr>
      </p:pic>
      <p:sp>
        <p:nvSpPr>
          <p:cNvPr id="61" name=""/>
          <p:cNvSpPr/>
          <p:nvPr/>
        </p:nvSpPr>
        <p:spPr>
          <a:xfrm>
            <a:off x="762120" y="51814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et for additional negotiation and potential expa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RIPs Accord</a:t>
            </a:r>
            <a:endParaRPr b="0" lang="en-US" sz="4400" spc="-1" strike="noStrike">
              <a:solidFill>
                <a:srgbClr val="0000ff"/>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quires patent protection for new inventions without discriminating between technologies -- biotechnological processes and products generally are to be protected by pat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ut, Article 27.3.b exemption complicates protection for new plant varietie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8381880" y="4724280"/>
            <a:ext cx="271440" cy="762120"/>
          </a:xfrm>
          <a:prstGeom prst="rect">
            <a:avLst/>
          </a:prstGeom>
          <a:ln w="0">
            <a:noFill/>
          </a:ln>
        </p:spPr>
      </p:pic>
      <p:pic>
        <p:nvPicPr>
          <p:cNvPr id="6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BT</a:t>
            </a:r>
            <a:endParaRPr b="0" lang="en-US" sz="4400" spc="-1" strike="noStrike">
              <a:solidFill>
                <a:srgbClr val="0000ff"/>
              </a:solidFill>
              <a:latin typeface="Times New Roman"/>
            </a:endParaRPr>
          </a:p>
        </p:txBody>
      </p:sp>
      <p:sp>
        <p:nvSpPr>
          <p:cNvPr id="67"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s rules and procedures regarding the application of standards and technical regulations, as well as testing and certification procedures for a wide range of produc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is relatively open-ended and less disciplined, although labeling and possibly environmental issues may fall under TBT jurisdi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8381880" y="4724280"/>
            <a:ext cx="271440" cy="762120"/>
          </a:xfrm>
          <a:prstGeom prst="rect">
            <a:avLst/>
          </a:prstGeom>
          <a:ln w="0">
            <a:noFill/>
          </a:ln>
        </p:spPr>
      </p:pic>
      <p:pic>
        <p:nvPicPr>
          <p:cNvPr id="6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SPS Agreement</a:t>
            </a:r>
            <a:endParaRPr b="0" lang="en-US" sz="4400" spc="-1" strike="noStrike">
              <a:solidFill>
                <a:srgbClr val="0000ff"/>
              </a:solidFill>
              <a:latin typeface="Times New Roman"/>
            </a:endParaRPr>
          </a:p>
        </p:txBody>
      </p:sp>
      <p:sp>
        <p:nvSpPr>
          <p:cNvPr id="71"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cc00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A risk-based agreement fully applicable to biotechnology that:</a:t>
            </a:r>
            <a:endParaRPr b="0" lang="en-US" sz="3200" spc="-1" strike="noStrike">
              <a:solidFill>
                <a:srgbClr val="000000"/>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s SPS measures to those applied for </a:t>
            </a:r>
            <a:r>
              <a:rPr b="0" lang="en-US" sz="3200" spc="-1" strike="noStrike" u="sng">
                <a:solidFill>
                  <a:srgbClr val="000000"/>
                </a:solidFill>
                <a:uFillTx/>
                <a:latin typeface="Times New Roman"/>
              </a:rPr>
              <a:t>no other purpose</a:t>
            </a:r>
            <a:r>
              <a:rPr b="0" lang="en-US" sz="3200" spc="-1" strike="noStrike">
                <a:solidFill>
                  <a:srgbClr val="000000"/>
                </a:solidFill>
                <a:latin typeface="Times New Roman"/>
              </a:rPr>
              <a:t> than to ensure food safety and animal and plant health.</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measures adopted to ensure food safety and animal and plant health must be based on </a:t>
            </a:r>
            <a:r>
              <a:rPr b="0" lang="en-US" sz="3200" spc="-1" strike="noStrike" u="sng">
                <a:solidFill>
                  <a:srgbClr val="000000"/>
                </a:solidFill>
                <a:uFillTx/>
                <a:latin typeface="Times New Roman"/>
              </a:rPr>
              <a:t>sound scientific princip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8381880" y="4724280"/>
            <a:ext cx="271440" cy="762120"/>
          </a:xfrm>
          <a:prstGeom prst="rect">
            <a:avLst/>
          </a:prstGeom>
          <a:ln w="0">
            <a:noFill/>
          </a:ln>
        </p:spPr>
      </p:pic>
      <p:pic>
        <p:nvPicPr>
          <p:cNvPr id="7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ow The SPS Has Been Applied</a:t>
            </a:r>
            <a:endParaRPr b="0" lang="en-US" sz="4400" spc="-1" strike="noStrike">
              <a:solidFill>
                <a:srgbClr val="0000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S has been tested and has proven to provide an effective legal basis for addressing unscientific SPS barriers (U.S.-EU beef hormone disp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reement has not yet been tested in the context of a biotech disput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8381880" y="4724280"/>
            <a:ext cx="271440" cy="762120"/>
          </a:xfrm>
          <a:prstGeom prst="rect">
            <a:avLst/>
          </a:prstGeom>
          <a:ln w="0">
            <a:noFill/>
          </a:ln>
        </p:spPr>
      </p:pic>
      <p:pic>
        <p:nvPicPr>
          <p:cNvPr id="7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467480" y="3200400"/>
            <a:ext cx="673200" cy="1447920"/>
          </a:xfrm>
          <a:prstGeom prst="rect">
            <a:avLst/>
          </a:prstGeom>
          <a:ln w="0">
            <a:noFill/>
          </a:ln>
        </p:spPr>
      </p:pic>
      <p:pic>
        <p:nvPicPr>
          <p:cNvPr id="79" name="" descr=""/>
          <p:cNvPicPr/>
          <p:nvPr/>
        </p:nvPicPr>
        <p:blipFill>
          <a:blip r:embed="rId2"/>
          <a:stretch/>
        </p:blipFill>
        <p:spPr>
          <a:xfrm>
            <a:off x="6534000" y="4648320"/>
            <a:ext cx="2610000" cy="1920600"/>
          </a:xfrm>
          <a:prstGeom prst="rect">
            <a:avLst/>
          </a:prstGeom>
          <a:ln w="0">
            <a:noFill/>
          </a:ln>
        </p:spPr>
      </p:pic>
      <p:sp>
        <p:nvSpPr>
          <p:cNvPr id="8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8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iosafety Protoc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cope of the Protocol</a:t>
            </a:r>
            <a:endParaRPr b="0" lang="en-US" sz="4400" spc="-1" strike="noStrike">
              <a:solidFill>
                <a:srgbClr val="0000ff"/>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SP applies to the transboundary movement and handling of living modified organisms (LMOs) that are intended for release into the environment and “that may have adverse effects on the conservation and sustainable use of biological diversity, taking also into account the risk to human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8381880" y="4724280"/>
            <a:ext cx="271440" cy="762120"/>
          </a:xfrm>
          <a:prstGeom prst="rect">
            <a:avLst/>
          </a:prstGeom>
          <a:ln w="0">
            <a:noFill/>
          </a:ln>
        </p:spPr>
      </p:pic>
      <p:pic>
        <p:nvPicPr>
          <p:cNvPr id="8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2:03:24Z</dcterms:created>
  <dc:creator>Type Your Name Here</dc:creator>
  <dc:description/>
  <dc:language>en-US</dc:language>
  <cp:lastModifiedBy>Laptop #24</cp:lastModifiedBy>
  <cp:lastPrinted>2000-03-13T16:11:16Z</cp:lastPrinted>
  <dcterms:modified xsi:type="dcterms:W3CDTF">2000-03-16T17:17:07Z</dcterms:modified>
  <cp:revision>29</cp:revision>
  <dc:subject/>
  <dc:title>An Emerging Legal Framework For Biotechnology</dc:title>
</cp:coreProperties>
</file>