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943-DBC1-4327-8F18-857D088B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F71-3BBB-414B-9BE8-2DB64D6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38D-A314-4C1F-8FAA-45652E84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877-9E3A-4550-AFC5-3C5AEEBF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04D-C7C4-4155-B064-7451BE1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7CC-6FB2-40A7-AEAD-88E667D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FA1-E5E7-4364-A448-2281F83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24F-FF38-4275-969F-AAC98C73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82A-38CB-44D3-AF48-9E22CC4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ED7-7790-418C-A453-E572DC0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DE0-EB02-43D0-BDE6-3887110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25C-9C3F-4A6F-9C85-5FE3633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132-4767-4D72-8441-35C98370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 environment and quality of life through 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hancement of the environment will be an integral part of development and use of any biotechnology initiative or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Proactively communicate the opportunities to improve the environment and quality of life through bio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model to incorporate environmental considerations into biotechnology R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ference or working group to initi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CC and PB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Post-November 2000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icit political support within the countries through the united efforts of PBEC, ABAC, and P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through Novemb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C takes leadership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untries identify and publicize the benefits and needs of biotechnology for their growth and development (ready for conference under (A.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paper for APEC ATC on benefits of biotechnology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Ma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Foundation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  PBEC Food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volve private sector, responsible environmental groups, and scientific organizations to proactively educate the policymakers, the media, and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ing positive results i.e., the environmental enhancement, nutrition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messages to various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foundations in promoting biotechnology for environmental preservation and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March 2000 and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05:50:15Z</dcterms:created>
  <dc:creator>DJR</dc:creator>
  <dc:description/>
  <dc:language>en-US</dc:language>
  <cp:lastModifiedBy>Default</cp:lastModifiedBy>
  <dcterms:modified xsi:type="dcterms:W3CDTF">2000-03-17T20:33:18Z</dcterms:modified>
  <cp:revision>2</cp:revision>
  <dc:subject/>
  <dc:title>Environmental Protection</dc:title>
</cp:coreProperties>
</file>