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D41-1E60-49D5-BDDA-84B3EB0D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9BC-FD08-41B2-B3ED-79EA5D2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F94-F316-4D14-A493-BB7AEDD1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80D-53E7-4629-8F56-1499E22D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61F-D7C0-4A98-AA0E-D22F753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468A-C556-47C6-9C2E-7302E94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22DA-C29B-4D4B-A8C3-EF6ACDE1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A4FF-E51F-4E99-9D90-C6E0E9A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540F-828D-430A-8CE4-3E76C449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DDF1-D2F2-4496-AB7F-6235145F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742-029C-4614-90AD-CD82354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E41-8DE9-46E1-B0DA-4955C0E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723-2230-4679-A789-55AD971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898-A69B-4052-B846-25E8BEB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2CB5-3DC9-4ACA-9D1F-FBB9DF9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C0A4-9FC8-4123-850F-8B43240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FAD6-DC3E-459B-8C76-ED8CCEB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A46-09AA-41FF-A698-91D36E4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DCE-C3B4-48C4-9A0F-3A3B2EAF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33F-71CE-49F6-9DA7-AA0C3EC1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D6F-E883-40D9-A525-2BC5567A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69F-BD5D-4BD8-9E10-71CA1FF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955-1BB9-4F89-87F3-F95C4BD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D63-D26B-49AB-A948-E91F600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E83A-297C-486A-87A2-58F2DF2DDC02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9A3-F518-479F-ADF2-EEEB1E3729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6AD0-B80C-421D-9709-C65ADD18FE36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AC7-70DB-446F-B794-462F8552C9A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DUCER BENEF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67884B4-89FC-4179-9F7B-06C1C4299BD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ridge the “biotechnology gap” by encouraging capacity building in developing countries through multilateral collabor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67F33-02E2-4F89-AB94-A4F2D15DD92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eate a “technology culture” in the food sec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14B66-4600-4257-9E04-BE74DEF1DCF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hat producers have adequate and appropriate information and knowled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best practice models for information dissemination, distance learning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55A49-AE63-4213-A172-BDF2713D156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countries to comply with their WTO/TRIPS obligati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will support APEC efforts to strengthen Individual Action Plan Monitor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E618A-FB4D-4B2E-88E3-FAE97D688A1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iotechnology as an opportunity for environmentally sustainable production system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rm strategic alliances with NGO groups who are open to dialogu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050BE-4D39-484D-B98C-E95352D7648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to poll members for positive examples -- identify, document, shar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E69F1-16BD-4B65-85AB-14B35AF1F19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gulatory Frame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hieve transparent, science-based and affordable regulatory frameworks in all jurisdictions and multilatera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global harmonization and mutual recognition agree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D7407-9030-4E5F-8994-FE95B5CFDC46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iminate barriers to the free trade of biotechnology products within a science-based SPS framewor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mplement the APEC Food System with respect to biotechnolog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Alan’s Group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8911E-09D2-44FB-8474-E5F7E7D2100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ain consumer acceptance of biotechnology products,but recognize that identity preservation may be required by consumers for ethical, religious or value-added reason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87366-E3CD-491A-A027-A06B7EC0F5C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ggressive, fact-based communication campaign that educates / enlists the med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rusted web-based inform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Group on Consumer Percep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3792C-5B5F-4E56-AFC2-6088B9C8E1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ssion/Vision Stat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l food producers and processors have the opportunity to secure the benefits of biotechnolog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62A39-8D86-4C06-8D65-F9C91727532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producers have full knowledge of consumer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vestigate web based delive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PEC Study Center Consortium to become a virtual delivery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EBF45-D7BE-4349-919C-FBAADC2FB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luding issues around availability and fund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460D1-FB63-4EDA-9B98-8D63D80A07B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ewardship and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65EEA-C44B-47BF-968F-F7C33D54E73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gulatory Framework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osafety, environmental risk man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27394-94AD-4003-A373-664D0D174D6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1BBB8-364E-4508-905F-C8B6DBB885E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umer Accept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F9FAB-22AD-4ABA-B9A5-8DB4A6ECFD4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0007-0116-49C5-9679-2588A5C64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ect I.P. rights essential to private sector R&amp;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public investment in biotech, e.g.: public research, education/training and public food research where there is no perceived commercial gai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FB384-0719-4A34-ACB4-1F09A13818C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8:08:01Z</dcterms:created>
  <dc:creator>Bonnie E. Raquet</dc:creator>
  <dc:description/>
  <dc:language>en-US</dc:language>
  <cp:lastModifiedBy>Tim Jobe</cp:lastModifiedBy>
  <dcterms:modified xsi:type="dcterms:W3CDTF">2000-03-29T20:12:12Z</dcterms:modified>
  <cp:revision>4</cp:revision>
  <dc:subject/>
  <dc:title>PRODUCER BENEFITS</dc:title>
</cp:coreProperties>
</file>