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360"/>
            <a:ext cx="2971800" cy="460440"/>
          </a:xfrm>
          <a:prstGeom prst="rect">
            <a:avLst/>
          </a:prstGeom>
          <a:noFill/>
          <a:ln w="0">
            <a:noFill/>
          </a:ln>
        </p:spPr>
        <p:txBody>
          <a:bodyPr lIns="91800" rIns="91800" anchor="t">
            <a:noAutofit/>
          </a:bodyPr>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360"/>
            <a:ext cx="2971800" cy="460440"/>
          </a:xfrm>
          <a:prstGeom prst="rect">
            <a:avLst/>
          </a:prstGeom>
          <a:noFill/>
          <a:ln w="0">
            <a:noFill/>
          </a:ln>
        </p:spPr>
        <p:txBody>
          <a:bodyPr lIns="91800" rIns="91800" anchor="t">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33640" y="686880"/>
            <a:ext cx="4590720" cy="3443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720280"/>
            <a:ext cx="2971800" cy="460080"/>
          </a:xfrm>
          <a:prstGeom prst="rect">
            <a:avLst/>
          </a:prstGeom>
          <a:noFill/>
          <a:ln w="0">
            <a:noFill/>
          </a:ln>
        </p:spPr>
        <p:txBody>
          <a:bodyPr lIns="91800" rIns="91800" anchor="b">
            <a:noAutofit/>
          </a:bodyPr>
          <a:lstStyle>
            <a:lvl1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720280"/>
            <a:ext cx="2971800" cy="460080"/>
          </a:xfrm>
          <a:prstGeom prst="rect">
            <a:avLst/>
          </a:prstGeom>
          <a:noFill/>
          <a:ln w="0">
            <a:noFill/>
          </a:ln>
        </p:spPr>
        <p:txBody>
          <a:bodyPr lIns="91800" rIns="91800"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66C54B-69BB-4D17-A709-FA6DDA40C3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33640" y="687240"/>
            <a:ext cx="4590720" cy="3443400"/>
          </a:xfrm>
          <a:prstGeom prst="rect">
            <a:avLst/>
          </a:prstGeom>
          <a:ln w="0">
            <a:noFill/>
          </a:ln>
        </p:spPr>
      </p:sp>
      <p:sp>
        <p:nvSpPr>
          <p:cNvPr id="154"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orning, salutations, etc.)  I would like to thank PBEC and its co- sponsors for the chance to address this important conference today. It seems that biotechnology is the hot topic of debate in agriculture at the moment and it is very appropriate that PBEC has gathered a collection of expert participants who will be able to help us make sense of this issue over the next two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course of this conference, we will hear presentations covering the full range of biotechnology-related policy issues.  We will also have the opportunity to develop recommendations that will guide regional policymakers as they work to develop a framework both for promoting as well as regulating the wondrous new products created through modern biotechnology.  This is not a light responsibility, since I would argue that those in this room and the countries of the Asia-Pacific from which we are all drawn stand at the forefront of the biotechnology debate and have the opportunity to lead the world into the next agricultural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begin this exercise, I think it important that we keep in mind one virtual certainty -- the world’s population generally, and the populations in the countries of the Asia-Pacific specifically, are expanding at a rate that will be difficult if not impossible to sustain with existing agricultural practices (turn to next slid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33640" y="687240"/>
            <a:ext cx="4590720" cy="3443400"/>
          </a:xfrm>
          <a:prstGeom prst="rect">
            <a:avLst/>
          </a:prstGeom>
          <a:ln w="0">
            <a:noFill/>
          </a:ln>
        </p:spPr>
      </p:sp>
      <p:sp>
        <p:nvSpPr>
          <p:cNvPr id="172"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le Holding previous slide)</a:t>
            </a:r>
            <a:r>
              <a:rPr b="0" lang="en-US" sz="1200" spc="-1" strike="noStrike">
                <a:solidFill>
                  <a:srgbClr val="000000"/>
                </a:solidFill>
                <a:latin typeface="Times New Roman"/>
              </a:rPr>
              <a:t> These few examples -- and there are many more which we will learn about later today -- illustrate clearly that the vast potential of biotechnology has not be lost on leaders in Asia nor has it been lost on other developing countries in the Asia-Pacific such as my home country of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nt creation of AgroBio Mexico this year is a testament to this acceptance of biotechnology and is illustrative of the tremendous benefits the technology has to offer not only agribusinesses in the United States and developed countries, but also farmers throughout the region whatever their size.  </a:t>
            </a:r>
            <a:r>
              <a:rPr b="1" lang="en-US" sz="1200" spc="-1" strike="noStrike">
                <a:solidFill>
                  <a:srgbClr val="000000"/>
                </a:solidFill>
                <a:latin typeface="Times New Roman"/>
              </a:rPr>
              <a:t>(an opportunity here to discuss more of the Mexican biotech industry and the benefits Mexico stands to reap from biotechnology. Suzanne Foti  particularly likes your talk on the benefits for Mexican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Now switch to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the technology that will make the “Doubly Green Revolution” possible is under severe attack by those who I would argue have forgotten the principles of sound science on which previous technological advances in agriculture have been b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an aggressive campaign of misinformation, these opponents have clouded the prospects for biotechnology and are currently jeopardizing the tremendous potential the technology has to offer. (Next Slid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33640" y="687240"/>
            <a:ext cx="4590720" cy="3443400"/>
          </a:xfrm>
          <a:prstGeom prst="rect">
            <a:avLst/>
          </a:prstGeom>
          <a:ln w="0">
            <a:noFill/>
          </a:ln>
        </p:spPr>
      </p:sp>
      <p:sp>
        <p:nvSpPr>
          <p:cNvPr id="174"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isten to opponents of biotechnology discuss the issue, you would think that scientists and agronomists engaged in this field are working to develop the next generation atomic bomb.  They contend that:  (List the arguments pictured i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hing could be further from the truth.  In fact, let’s take each argument to task  one-by-one (shift to next slid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33640" y="687240"/>
            <a:ext cx="4590720" cy="3443400"/>
          </a:xfrm>
          <a:prstGeom prst="rect">
            <a:avLst/>
          </a:prstGeom>
          <a:ln w="0">
            <a:noFill/>
          </a:ln>
        </p:spPr>
      </p:sp>
      <p:sp>
        <p:nvSpPr>
          <p:cNvPr id="176"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biotechnology is nothing more than an extension of the plant breeding and hybridization techniques that farmers and agronomists have been practicing for literally hundreds of years.  While modern biotechnology certainly accelerates and more accurately targets the alteration of genetic traits in plants, it is not substantially different in concept than the old “shotgun” approach to genetic manipulation that cross breeders have used for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vironmentalists’ opposition to biotechnology is even more perplexing since the technology actually offers more benefits to the environment in many ways than conventional agriculture.  By increasing yields on existing lands, biotechnology can help lessen pressure on farmers in poor countries to clear- cut native habitat.  By helping to reduce the use of pesticides and fertilizers, new plants enhanced through biotechnology could dramatically reduce the negative effects on the environment of these harmful chemic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issue of Frankenfoods is somewhat of a “red herring” for all but the most fervent opponents of biotechnology.  To date, there has been no indication that a bio-enhanced food product has harmed a human being in any way, despite the fact that millions of people have been consuming these products for years.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33640" y="687240"/>
            <a:ext cx="4590720" cy="3443400"/>
          </a:xfrm>
          <a:prstGeom prst="rect">
            <a:avLst/>
          </a:prstGeom>
          <a:ln w="0">
            <a:noFill/>
          </a:ln>
        </p:spPr>
      </p:sp>
      <p:sp>
        <p:nvSpPr>
          <p:cNvPr id="178" name="PlaceHolder 2"/>
          <p:cNvSpPr>
            <a:spLocks noGrp="1"/>
          </p:cNvSpPr>
          <p:nvPr>
            <p:ph type="body"/>
          </p:nvPr>
        </p:nvSpPr>
        <p:spPr>
          <a:xfrm>
            <a:off x="609120" y="4208400"/>
            <a:ext cx="5791320" cy="46656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closer scrutiny, the concerns about biotechnology I have just discussed fade in significance.  However, I find that these two practical concerns -- That: (refer to slide) --continue to spark a more substantive debate.  Here again though, closer consideration calls into question the legitimacy of these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ddress the first issue, I think much of the concern over monopolistic domination of biotechnology stems from rumors about so-called “Terminator Technology” that will render second generation seeds infertile.  But even the company that was examining the possibility of developing such seeds has decided that it would be impractical and unnecessary to market them.  Likewise, the vast benefits that bio-enhanced seeds will offer farmers of all size in terms of their ability to reduce costs of inputs and increase yields should more than offset the price premium paid for the seeds.  As bio-enhanced seeds become more widely available, one would also expect this price premium to diminish as well, as technology providers recoup R&amp;D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gument that the development of and trade in new products of biotechnology is occurring in a regulatory vacuum is also false.  The United States for example has an exhaustive review process for genetically enhance food varieties as do all of the countries I mentioned earlier.  The recent adoption of the Biosafety Protocol in Montreal earlier this year will provide yet another safety net for countries that currently do not have regulations to manage trade in biotechnology, ensuring that  new plant varieties developed through biotechnology do not result in unintended ecological consequences, which no one wants.  </a:t>
            </a:r>
            <a:r>
              <a:rPr b="1" lang="en-US" sz="1200" spc="-1" strike="noStrike">
                <a:solidFill>
                  <a:srgbClr val="000000"/>
                </a:solidFill>
                <a:latin typeface="Times New Roman"/>
              </a:rPr>
              <a:t>(Mario, here would be an opportunity for you to provide more insights on the benefits of the Protocol if  you would like to do so).   </a:t>
            </a: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33640" y="687240"/>
            <a:ext cx="4590720" cy="3443400"/>
          </a:xfrm>
          <a:prstGeom prst="rect">
            <a:avLst/>
          </a:prstGeom>
          <a:ln w="0">
            <a:noFill/>
          </a:ln>
        </p:spPr>
      </p:sp>
      <p:sp>
        <p:nvSpPr>
          <p:cNvPr id="180"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nted to address some of the prevalent myths about biotechnology because I believe that they pose perhaps the greatest threat to the future development of the agricultural products critical for us to achieve world food security in the next centu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ense, I believe we are at an important crossroad today.  Countries in the Asia-Pacific now face a choice whether to adopt a skeptical attitude regarding biotechnology as so many of our European friends have embraced or to grab onto biotechnology, accepting it as the important tool for food security that it is.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33640" y="687240"/>
            <a:ext cx="4590720" cy="3443400"/>
          </a:xfrm>
          <a:prstGeom prst="rect">
            <a:avLst/>
          </a:prstGeom>
          <a:ln w="0">
            <a:noFill/>
          </a:ln>
        </p:spPr>
      </p:sp>
      <p:sp>
        <p:nvSpPr>
          <p:cNvPr id="182"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ely, I think that unlike in the EU, leaders in the Asia-Pacific have recognized the important role biotechnology has to play in enhancing future food security in the region.  This statement that was included in the last APEC ministerial declaration clearly affirms APEC’s commitment to developing a comprehensive and science-based work program on biotechnolo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elieve this statement is exactly the vision that must be espoused as APEC moves forward to develop new initiatives aimed at biotechnology-related capacity building in the region.  It will guide us well as APEC leaders meet next in China, the most populous country in the world and then again in my country Mexico, which is already well on its way to embracing bio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lso believe that both the letter and spirit of this declaration should form the basis of any new regional regulatory structures for biotechnology to ensure that the development of new bio-enhanced products and the trade in these products is conducted in a predictable and transparent fashion.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33640" y="687240"/>
            <a:ext cx="4590720" cy="3443400"/>
          </a:xfrm>
          <a:prstGeom prst="rect">
            <a:avLst/>
          </a:prstGeom>
          <a:ln w="0">
            <a:noFill/>
          </a:ln>
        </p:spPr>
      </p:sp>
      <p:sp>
        <p:nvSpPr>
          <p:cNvPr id="184"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brings us to our task today.  Thanks to PBEC organizers, we have gathered some of the world’s most noted experts on the full range of biotechnology related issues.  I hope that the presentations provided today help filter out much of the counterproductive “noise” that is currently hindering the advancement of important new developments in agricultural bio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oring the discussion on biotechnology to a much higher and scientifically- oriented plane certainly is in the interest of all of us here today, and is critical if countries in the Asia-Pacific and the rest of the world are to benefit from advances in technology to feed their growing populations and to continue to develop thriving agricultural export mar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in mind, I urge you all to take full advantage of this conference and the breakout sessions that will take place today and tomorrow to develop a set of concrete recommendations for regional leaders that we can all be proud of.  Recommendations that are science-based, rational and supportive of the important role that biotechnology can play in creating a new and improved agricultural economy in APEC and beyond, while at the same time being sensitive to the need to protect our precious environment and the health of all our citizens. (on to last 2 slid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33640" y="687240"/>
            <a:ext cx="4590720" cy="3443400"/>
          </a:xfrm>
          <a:prstGeom prst="rect">
            <a:avLst/>
          </a:prstGeom>
          <a:ln w="0">
            <a:noFill/>
          </a:ln>
        </p:spPr>
      </p:sp>
      <p:sp>
        <p:nvSpPr>
          <p:cNvPr id="186"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achieve this objective, I would argue that the recommendations we ultimately pass on to APEC leaders be fully consistent with WTO trade rules, particularly those laid out in the Agreement on Sanitary and Phytosanitary Measures (SPS Agreement to be discussed later during the con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we should urge our regional leaders to press other multilateral fora such as the OECD and the Codex Alimentarius Commission to pursue science-based work programs on biotechnology that are consistent with our regional efforts. </a:t>
            </a:r>
            <a:r>
              <a:rPr b="1" lang="en-US" sz="1200" spc="-1" strike="noStrike">
                <a:solidFill>
                  <a:srgbClr val="000000"/>
                </a:solidFill>
                <a:latin typeface="Times New Roman"/>
              </a:rPr>
              <a:t>(There is additional room for elaboration on both these points as you see fit.) </a:t>
            </a: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33640" y="687240"/>
            <a:ext cx="4590720" cy="3443400"/>
          </a:xfrm>
          <a:prstGeom prst="rect">
            <a:avLst/>
          </a:prstGeom>
          <a:ln w="0">
            <a:noFill/>
          </a:ln>
        </p:spPr>
      </p:sp>
      <p:sp>
        <p:nvSpPr>
          <p:cNvPr id="188"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art of this philosophy, we should adopt a narrowly defined interpretation of the Precautionary Principle, which I would argue Europe has used to effectively halt the commercialization of new products of biotechnology for unscientific reasons. </a:t>
            </a:r>
            <a:r>
              <a:rPr b="1" lang="en-US" sz="1200" spc="-1" strike="noStrike">
                <a:solidFill>
                  <a:srgbClr val="000000"/>
                </a:solidFill>
                <a:latin typeface="Times New Roman"/>
              </a:rPr>
              <a:t>(additional elaboration a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our governments must be convinced of the importance of educating the average citizens on the benefits of biotechnology in order to assure the public that these new products are appropriately regulated and safe. </a:t>
            </a:r>
            <a:r>
              <a:rPr b="1" lang="en-US" sz="1200" spc="-1" strike="noStrike">
                <a:solidFill>
                  <a:srgbClr val="000000"/>
                </a:solidFill>
                <a:latin typeface="Times New Roman"/>
              </a:rPr>
              <a:t>(additional elaboration a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an achieve these objectives and develop a science-based work program on biotechnology, the countries of the Asia-Pacific stand to revolutionize agriculture in the next century.  We face a significant challenge in the region, but the tools are at hand to meet the challenge if we have the vision to take our destiny in our own hands.  The Asia-Pacific can become the world leader in biotechnology and we have the opportunity today to take the next step to secure biotechnology’s “Promise for the Future” (go to final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33640" y="687240"/>
            <a:ext cx="4590720" cy="3443400"/>
          </a:xfrm>
          <a:prstGeom prst="rect">
            <a:avLst/>
          </a:prstGeom>
          <a:ln w="0">
            <a:noFill/>
          </a:ln>
        </p:spPr>
      </p:sp>
      <p:sp>
        <p:nvSpPr>
          <p:cNvPr id="156"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slide statistic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33640" y="687240"/>
            <a:ext cx="4590720" cy="3443400"/>
          </a:xfrm>
          <a:prstGeom prst="rect">
            <a:avLst/>
          </a:prstGeom>
          <a:ln w="0">
            <a:noFill/>
          </a:ln>
        </p:spPr>
      </p:sp>
      <p:sp>
        <p:nvSpPr>
          <p:cNvPr id="158"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in Asia alone currently accounts for roughly half of the world’s population and if you add in countries of the Western Hemisphere that also comprise the Asia-Pacific you are looking at a region that contains the lion’s share of the world’s people.  (Next Sli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33640" y="687240"/>
            <a:ext cx="4590720" cy="3443400"/>
          </a:xfrm>
          <a:prstGeom prst="rect">
            <a:avLst/>
          </a:prstGeom>
          <a:ln w="0">
            <a:noFill/>
          </a:ln>
        </p:spPr>
      </p:sp>
      <p:sp>
        <p:nvSpPr>
          <p:cNvPr id="160"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the populations of the Asia-Pacific are growing at the fastest rate relative to other regions of the world.  Consequently, we can be sure that this region of the world will have many mouths to feed in the next century. (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33640" y="687240"/>
            <a:ext cx="4590720" cy="3443400"/>
          </a:xfrm>
          <a:prstGeom prst="rect">
            <a:avLst/>
          </a:prstGeom>
          <a:ln w="0">
            <a:noFill/>
          </a:ln>
        </p:spPr>
      </p:sp>
      <p:sp>
        <p:nvSpPr>
          <p:cNvPr id="162"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ght of this next population boom, it is clear that we must take additional steps beyond the highly successful “Green Revolution” of the 1960s, 70s and 80s to increase global output of food from existing agricultural 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mproving the efficiency of local agricultural production systems is as important as increasing total global agricultural output.  In the case of grain, for example, only 10 percent of world grain production is traded.  As a result, 90 percent of the world’s grain consumption takes place within the country in which it was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improvements in agricultural efficiency at the national level, we will constantly be fighting an uphill battle for food security in regions like the Asia-Pacific, which are experiencing high population growth rates.  (Next Slid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33640" y="687240"/>
            <a:ext cx="4590720" cy="3443400"/>
          </a:xfrm>
          <a:prstGeom prst="rect">
            <a:avLst/>
          </a:prstGeom>
          <a:ln w="0">
            <a:noFill/>
          </a:ln>
        </p:spPr>
      </p:sp>
      <p:sp>
        <p:nvSpPr>
          <p:cNvPr id="164"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ely, the production challenges we will face in the years to come are not unprecedented.  Over the last 30 years we also added 2 billion people to the world’s population and agricultural production has kept 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because the world’s farmers have embraced new technologies and farming practices to meet the challenge.  Unfortunately, many of these practices -- increased use of better fertilizers, pesticides and herbicides as well as improved irrigation -- have been harmful to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refore are faced with the double challenge of dramatically increasing agricultural production on the same scale as in the last three decades but in a way that also is sensitive to our dwindling environmental resources.  To coin a phrase from Conway, we must strive to achieve a “Doubly Green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biotechnology comes in and I would argue that like in North America, countries in the Asia-Pacific are already well on their way to taking advantage of the important opportunities biotechnology has to offer to address the needs of their growing populations, while at the same time protecting their valuable environmental resources. (Next Sli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33640" y="687240"/>
            <a:ext cx="4590720" cy="3443400"/>
          </a:xfrm>
          <a:prstGeom prst="rect">
            <a:avLst/>
          </a:prstGeom>
          <a:ln w="0">
            <a:noFill/>
          </a:ln>
        </p:spPr>
      </p:sp>
      <p:sp>
        <p:nvSpPr>
          <p:cNvPr id="166"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ome would have us believe that the benefits of biotechnology are confined to the rich nations of the West, nothing could be further from the truth.  As I noted a moment ago, the enhancement of local agricultural systems plays a key role in ensuring national food security and farmers and governments in the Asia-Pacific have already begun to step up to the plate to adopt new technologies to make their agricultural sectors more efficient and prod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still in the formative stages, the biotechnology industry in Asia is expanding exponentially as countries begin to become aware of the tremendous potential the technology has to offer both in terms of its ability to help ensure domestic food security as well as to improve the profitability of important agricultural export markets. (Next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33640" y="687240"/>
            <a:ext cx="4590720" cy="3443400"/>
          </a:xfrm>
          <a:prstGeom prst="rect">
            <a:avLst/>
          </a:prstGeom>
          <a:ln w="0">
            <a:noFill/>
          </a:ln>
        </p:spPr>
      </p:sp>
      <p:sp>
        <p:nvSpPr>
          <p:cNvPr id="168"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is an excellent example of a country that is leading the charge toward bio-enhanced agriculture.  Indeed, China has moved rapidly to adopt new technology to feed its large population and scientists in the country have evaluated over 100 genes for improving traits in rice, wheat, corn, cotton, tomatoes, potatoes and cucu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over 50 genetically enhanced plant varieties are approved for commercial use in China and the 1 million hectares of land planted in products of biotechnology is expected to continue to expand as China seeks to utilize biotechnology to improve yields, enhance plant disease resistance and to lower pesticide use by engineering plants resistant to local pests.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33640" y="687240"/>
            <a:ext cx="4590720" cy="3443400"/>
          </a:xfrm>
          <a:prstGeom prst="rect">
            <a:avLst/>
          </a:prstGeom>
          <a:ln w="0">
            <a:noFill/>
          </a:ln>
        </p:spPr>
      </p:sp>
      <p:sp>
        <p:nvSpPr>
          <p:cNvPr id="170" name="PlaceHolder 2"/>
          <p:cNvSpPr>
            <a:spLocks noGrp="1"/>
          </p:cNvSpPr>
          <p:nvPr>
            <p:ph type="body"/>
          </p:nvPr>
        </p:nvSpPr>
        <p:spPr>
          <a:xfrm>
            <a:off x="914400" y="4361040"/>
            <a:ext cx="5029200" cy="440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China has dramatically increased its utilization of biotechnology in recent years, so too have other countries in the Asia-Pa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ailand has stepped up R&amp;D spending to develop bio-enhanced rice, sugar cane, durian and rubber trees.  Much of this work is focused on improving yields and lowering costs of production for important Thai export commodities, helping to improve the profitability and hard currency generating capacity of Thailand’s important agricultural s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iland’s efforts have not been confined simply to plants, but also have extended to aquaculture where scientists are beginning to have success using biotechnology to control viral diseases in shrimp, one of Thailand’s most important export industries.  These diseases are estimated to have cost Thailand as much as  $500 million in lost production in bad years -- clearly a significant problem to be addr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wise, the Philippines recently launched a major governmental effort to increase agricultural productivity in the country.  As part of this initiative, the Philippines will spend roughly $20 million annually for the next several years on R&amp;D related to biotechnology.  The Philippines committed only $1 million annually to biotech-related R&amp;D prior to 1998. (</a:t>
            </a:r>
            <a:r>
              <a:rPr b="1" lang="en-US" sz="1200" spc="-1" strike="noStrike">
                <a:solidFill>
                  <a:srgbClr val="000000"/>
                </a:solidFill>
                <a:latin typeface="Times New Roman"/>
              </a:rPr>
              <a:t>Hold slide</a:t>
            </a:r>
            <a:r>
              <a:rPr b="0" lang="en-US" sz="1200" spc="-1" strike="noStrike">
                <a:solidFill>
                  <a:srgbClr val="000000"/>
                </a:solidFill>
                <a:latin typeface="Times New Roman"/>
              </a:rPr>
              <a:t> while covering first half of notes on next pa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73BB7-5832-4FB0-9C58-BF531E930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6E527-DFC1-4495-B7F1-2DAD027FA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72CFF-E5AC-4E68-861B-C9BA8E62E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21491-FABA-4168-AAA4-E5FC4D1F6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E265D1-B876-473B-89BA-2946D96052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2D6E9-74F1-4CEC-BD2A-9DE2DD0DF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412F0-38C8-4C75-93B8-4CF9080F3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57D88-DF78-4B83-B764-A2C1AF935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8F9EC-F494-42C5-85F1-4BBC4E992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F6C1D-792C-41C2-B976-B163D9DA8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F5F37-D0C6-4840-88B5-8DCACE4E6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AEC8C-8190-4F22-B8EE-AD9BB3640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A3EAA-999F-46E8-A5F9-7C66714FC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451E1-1454-418C-8362-7C9DBF8F8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3282A-5D48-4C34-BA43-EF98F2BFE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97A9D7-2A08-41C4-AFFD-F4CB8D49CA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B373FC-AFB0-47EA-A03B-CAE36760A0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D5132-9B1C-4D1E-A7AA-A115F43B3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8B53A-3B98-42B3-97D4-DC09B1510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F5456-0C39-4366-9003-C790E24AC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4DAD1-9E1F-4ABB-B75A-79629902F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07087-6E51-4B9E-8F25-0268D30FC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C57B7-22E5-478E-ADAD-0AA13D3C8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7F276-3B1F-46CF-B51C-E8506AFF8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19F24-6849-4457-AC4A-64563CC0BA5C}"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8287F-91E0-444F-B43A-CA74B7BFAD82}"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1447560"/>
            <a:ext cx="80773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otechnology &amp; The Asia-Pacific</a:t>
            </a:r>
            <a:endParaRPr b="0" i="1" lang="en-US" sz="44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Promise for the Future</a:t>
            </a:r>
            <a:endParaRPr b="0" lang="en-US" sz="4000" spc="-1" strike="noStrike">
              <a:solidFill>
                <a:srgbClr val="ffffcc"/>
              </a:solidFill>
              <a:latin typeface="Times New Roman"/>
            </a:endParaRPr>
          </a:p>
        </p:txBody>
      </p:sp>
      <p:pic>
        <p:nvPicPr>
          <p:cNvPr id="101" name="" descr=""/>
          <p:cNvPicPr/>
          <p:nvPr/>
        </p:nvPicPr>
        <p:blipFill>
          <a:blip r:embed="rId1"/>
          <a:stretch/>
        </p:blipFill>
        <p:spPr>
          <a:xfrm>
            <a:off x="7289640" y="5521320"/>
            <a:ext cx="1854360" cy="133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1447560"/>
            <a:ext cx="80773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otechnology &amp; The Asia-Pacific</a:t>
            </a:r>
            <a:endParaRPr b="0" i="1" lang="en-US" sz="4400" spc="-1" strike="noStrike">
              <a:solidFill>
                <a:srgbClr val="ffcc66"/>
              </a:solidFill>
              <a:latin typeface="Times New Roman"/>
            </a:endParaRPr>
          </a:p>
        </p:txBody>
      </p:sp>
      <p:sp>
        <p:nvSpPr>
          <p:cNvPr id="13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Myths and Resistance</a:t>
            </a:r>
            <a:endParaRPr b="0" lang="en-US" sz="4000" spc="-1" strike="noStrike">
              <a:solidFill>
                <a:srgbClr val="ffffcc"/>
              </a:solidFill>
              <a:latin typeface="Times New Roman"/>
            </a:endParaRPr>
          </a:p>
        </p:txBody>
      </p:sp>
      <p:pic>
        <p:nvPicPr>
          <p:cNvPr id="132" name="" descr=""/>
          <p:cNvPicPr/>
          <p:nvPr/>
        </p:nvPicPr>
        <p:blipFill>
          <a:blip r:embed="rId1"/>
          <a:stretch/>
        </p:blipFill>
        <p:spPr>
          <a:xfrm>
            <a:off x="7289640" y="5521320"/>
            <a:ext cx="1854360" cy="133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Myths and Misperceptions</a:t>
            </a:r>
            <a:endParaRPr b="0" i="1" lang="en-US" sz="4400" spc="-1" strike="noStrike">
              <a:solidFill>
                <a:srgbClr val="ffcc66"/>
              </a:solidFill>
              <a:latin typeface="Times New Roman"/>
            </a:endParaRPr>
          </a:p>
        </p:txBody>
      </p:sp>
      <p:sp>
        <p:nvSpPr>
          <p:cNvPr id="134" name="PlaceHolder 2"/>
          <p:cNvSpPr>
            <a:spLocks noGrp="1"/>
          </p:cNvSpPr>
          <p:nvPr>
            <p:ph/>
          </p:nvPr>
        </p:nvSpPr>
        <p:spPr>
          <a:xfrm>
            <a:off x="685440" y="2057400"/>
            <a:ext cx="807732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ursuing biotechnology is like “playing God” and unnatural.</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iotechnology is harmful to the environment in ways never before encountere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iotechnology is creating unsafe “Frankenfood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Reality</a:t>
            </a:r>
            <a:endParaRPr b="0" i="1" lang="en-US" sz="4400" spc="-1" strike="noStrike">
              <a:solidFill>
                <a:srgbClr val="ffcc66"/>
              </a:solidFill>
              <a:latin typeface="Times New Roman"/>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iotechnology is but the next logical extension of plant breeding techniques in use for hundreds of years.</a:t>
            </a:r>
            <a:endParaRPr b="0" lang="en-US" sz="3200" spc="-1" strike="noStrike">
              <a:solidFill>
                <a:srgbClr val="ffffcc"/>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iotechnology offers the potential to alleviate environmental damage caused by agriculture.</a:t>
            </a:r>
            <a:endParaRPr b="0" lang="en-US" sz="3200" spc="-1" strike="noStrike">
              <a:solidFill>
                <a:srgbClr val="ffffcc"/>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 bio-enhanced product has been found to be in the least bit unsafe for human consumptio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ther False Concerns</a:t>
            </a:r>
            <a:endParaRPr b="0" i="1" lang="en-US" sz="4400" spc="-1" strike="noStrike">
              <a:solidFill>
                <a:srgbClr val="ffcc66"/>
              </a:solidFill>
              <a:latin typeface="Times New Roman"/>
            </a:endParaRPr>
          </a:p>
        </p:txBody>
      </p:sp>
      <p:sp>
        <p:nvSpPr>
          <p:cNvPr id="13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iotechnology will be controlled by large AgroChemical businesses to the detriment of the small farmer.</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iotechnology is insufficiently regulated, presenting the risk of future environmental and health problem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447560"/>
            <a:ext cx="80773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otechnology &amp; The Asia-Pacific</a:t>
            </a:r>
            <a:endParaRPr b="0" i="1" lang="en-US" sz="4400" spc="-1" strike="noStrike">
              <a:solidFill>
                <a:srgbClr val="ffcc66"/>
              </a:solidFill>
              <a:latin typeface="Times New Roman"/>
            </a:endParaRPr>
          </a:p>
        </p:txBody>
      </p:sp>
      <p:sp>
        <p:nvSpPr>
          <p:cNvPr id="14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At the Crossroad</a:t>
            </a:r>
            <a:endParaRPr b="0" lang="en-US" sz="4000" spc="-1" strike="noStrike">
              <a:solidFill>
                <a:srgbClr val="ffffcc"/>
              </a:solidFill>
              <a:latin typeface="Times New Roman"/>
            </a:endParaRPr>
          </a:p>
        </p:txBody>
      </p:sp>
      <p:pic>
        <p:nvPicPr>
          <p:cNvPr id="141" name="" descr=""/>
          <p:cNvPicPr/>
          <p:nvPr/>
        </p:nvPicPr>
        <p:blipFill>
          <a:blip r:embed="rId1"/>
          <a:stretch/>
        </p:blipFill>
        <p:spPr>
          <a:xfrm>
            <a:off x="7289640" y="5521320"/>
            <a:ext cx="1854360" cy="133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PEC Has It Right</a:t>
            </a:r>
            <a:endParaRPr b="0" i="1" lang="en-US" sz="4400" spc="-1" strike="noStrike">
              <a:solidFill>
                <a:srgbClr val="ffcc66"/>
              </a:solidFill>
              <a:latin typeface="Times New Roman"/>
            </a:endParaRPr>
          </a:p>
        </p:txBody>
      </p:sp>
      <p:sp>
        <p:nvSpPr>
          <p:cNvPr id="14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en-US" sz="3200" spc="-1" strike="noStrike">
                <a:solidFill>
                  <a:srgbClr val="ffffcc"/>
                </a:solidFill>
                <a:latin typeface="Times New Roman"/>
              </a:rPr>
              <a:t>Recognizing the important contribution biotechnology can make in expanding agricultural production … [APEC] Ministers affirmed the importance of transparent and science-based approaches to the introduction and use of biotechnology products …”    </a:t>
            </a:r>
            <a:r>
              <a:rPr b="0" i="1" lang="en-US" sz="2800" spc="-1" strike="noStrike">
                <a:solidFill>
                  <a:srgbClr val="ffffcc"/>
                </a:solidFill>
                <a:latin typeface="Times New Roman"/>
              </a:rPr>
              <a:t>Statement from the last APEC ministerial declaration</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ur Task at Hand</a:t>
            </a:r>
            <a:endParaRPr b="0" i="1" lang="en-US" sz="4400" spc="-1" strike="noStrike">
              <a:solidFill>
                <a:srgbClr val="ffcc66"/>
              </a:solidFill>
              <a:latin typeface="Times New Roman"/>
            </a:endParaRPr>
          </a:p>
        </p:txBody>
      </p:sp>
      <p:sp>
        <p:nvSpPr>
          <p:cNvPr id="14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ffcc66"/>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o filter out the noise of the current debate on biotechnology.</a:t>
            </a:r>
            <a:endParaRPr b="0" lang="en-US" sz="3200" spc="-1" strike="noStrike">
              <a:solidFill>
                <a:srgbClr val="ffffcc"/>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29040" indent="-329040">
              <a:spcBef>
                <a:spcPts val="799"/>
              </a:spcBef>
              <a:buClr>
                <a:srgbClr val="ffcc66"/>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o develop a package of recommendations that will help regional leaders balance the need to move forward with technical advances to ensure food security while protecting the environment and human health.</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Recommendations to Leaders</a:t>
            </a:r>
            <a:endParaRPr b="0" i="1" lang="en-US" sz="4400" spc="-1" strike="noStrike">
              <a:solidFill>
                <a:srgbClr val="ffcc66"/>
              </a:solidFill>
              <a:latin typeface="Times New Roman"/>
            </a:endParaRPr>
          </a:p>
        </p:txBody>
      </p:sp>
      <p:sp>
        <p:nvSpPr>
          <p:cNvPr id="14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upport the development of regulatory systems consistent with WTO rule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eaders should press international institutions like the OECD and Codex to pursue science-based work programs on biotechnology.</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Recommendations to Leaders</a:t>
            </a:r>
            <a:endParaRPr b="0" i="1" lang="en-US" sz="4400" spc="-1" strike="noStrike">
              <a:solidFill>
                <a:srgbClr val="ffcc66"/>
              </a:solidFill>
              <a:latin typeface="Times New Roman"/>
            </a:endParaRPr>
          </a:p>
        </p:txBody>
      </p:sp>
      <p:sp>
        <p:nvSpPr>
          <p:cNvPr id="14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sist broad interpretations of the so-called “Precautionary Principle.”</a:t>
            </a:r>
            <a:endParaRPr b="0" lang="en-US" sz="3200" spc="-1" strike="noStrike">
              <a:solidFill>
                <a:srgbClr val="ffffcc"/>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ake steps to explain the benefits of biotechnology to their respective citizens in order to reassure the public that products of biotechnology ARE in fact adequately regulated and safe.</a:t>
            </a:r>
            <a:endParaRPr b="0" lang="en-US" sz="3200" spc="-1" strike="noStrike">
              <a:solidFill>
                <a:srgbClr val="ffffcc"/>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1447560"/>
            <a:ext cx="80773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otechnology &amp; The Asia-Pacific</a:t>
            </a:r>
            <a:endParaRPr b="0" i="1" lang="en-US" sz="4400" spc="-1" strike="noStrike">
              <a:solidFill>
                <a:srgbClr val="ffcc66"/>
              </a:solidFill>
              <a:latin typeface="Times New Roman"/>
            </a:endParaRPr>
          </a:p>
        </p:txBody>
      </p:sp>
      <p:sp>
        <p:nvSpPr>
          <p:cNvPr id="15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Promise for the Future</a:t>
            </a:r>
            <a:endParaRPr b="0" lang="en-US" sz="4000" spc="-1" strike="noStrike">
              <a:solidFill>
                <a:srgbClr val="ffffcc"/>
              </a:solidFill>
              <a:latin typeface="Times New Roman"/>
            </a:endParaRPr>
          </a:p>
        </p:txBody>
      </p:sp>
      <p:pic>
        <p:nvPicPr>
          <p:cNvPr id="152" name="" descr=""/>
          <p:cNvPicPr/>
          <p:nvPr/>
        </p:nvPicPr>
        <p:blipFill>
          <a:blip r:embed="rId1"/>
          <a:stretch/>
        </p:blipFill>
        <p:spPr>
          <a:xfrm>
            <a:off x="7289640" y="5521320"/>
            <a:ext cx="1854360" cy="133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Population Conundrum</a:t>
            </a:r>
            <a:endParaRPr b="0" i="1" lang="en-US" sz="4400" spc="-1" strike="noStrike">
              <a:solidFill>
                <a:srgbClr val="ffcc66"/>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the first 25-30 years of the next century, the world’s population will increase by an estimated 2 billion peopl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95 percent of this population growth will take place in developing countries, many of which are located in or border the Asia-Pacifi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Times New Roman"/>
              </a:rPr>
              <a:t>World Population by Key Regions</a:t>
            </a:r>
            <a:endParaRPr b="0" i="1" lang="en-US" sz="4000" spc="-1" strike="noStrike">
              <a:solidFill>
                <a:srgbClr val="ffcc66"/>
              </a:solidFill>
              <a:latin typeface="Times New Roman"/>
            </a:endParaRPr>
          </a:p>
        </p:txBody>
      </p:sp>
      <p:graphicFrame>
        <p:nvGraphicFramePr>
          <p:cNvPr id="105" name=""/>
          <p:cNvGraphicFramePr/>
          <p:nvPr/>
        </p:nvGraphicFramePr>
        <p:xfrm>
          <a:off x="685800" y="2057400"/>
          <a:ext cx="7770960" cy="4114800"/>
        </p:xfrm>
        <a:graphic>
          <a:graphicData uri="http://schemas.openxmlformats.org/presentationml/2006/ole">
            <p:oleObj r:id="rId1" spid="">
              <p:embed/>
              <p:pic>
                <p:nvPicPr>
                  <p:cNvPr id="106" name="" descr=""/>
                  <p:cNvPicPr/>
                  <p:nvPr/>
                </p:nvPicPr>
                <p:blipFill>
                  <a:blip r:embed="rId2"/>
                  <a:stretch/>
                </p:blipFill>
                <p:spPr>
                  <a:xfrm>
                    <a:off x="685800" y="2057400"/>
                    <a:ext cx="7770960" cy="4114800"/>
                  </a:xfrm>
                  <a:prstGeom prst="rect">
                    <a:avLst/>
                  </a:prstGeom>
                  <a:ln w="0">
                    <a:noFill/>
                  </a:ln>
                </p:spPr>
              </p:pic>
            </p:oleObj>
          </a:graphicData>
        </a:graphic>
      </p:graphicFrame>
      <p:sp>
        <p:nvSpPr>
          <p:cNvPr id="107" name=""/>
          <p:cNvSpPr/>
          <p:nvPr/>
        </p:nvSpPr>
        <p:spPr>
          <a:xfrm>
            <a:off x="1254240" y="5791320"/>
            <a:ext cx="26283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sia (including ASEAN, </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China and India) </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50%</a:t>
            </a:r>
            <a:endParaRPr b="0" lang="en-US" sz="1800" spc="-1" strike="noStrike">
              <a:solidFill>
                <a:srgbClr val="ffffcc"/>
              </a:solidFill>
              <a:latin typeface="Times New Roman"/>
            </a:endParaRPr>
          </a:p>
        </p:txBody>
      </p:sp>
      <p:sp>
        <p:nvSpPr>
          <p:cNvPr id="108" name=""/>
          <p:cNvSpPr/>
          <p:nvPr/>
        </p:nvSpPr>
        <p:spPr>
          <a:xfrm>
            <a:off x="3659760" y="1600200"/>
            <a:ext cx="509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EU</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6%</a:t>
            </a:r>
            <a:endParaRPr b="0" lang="en-US" sz="1800" spc="-1" strike="noStrike">
              <a:solidFill>
                <a:srgbClr val="ffffcc"/>
              </a:solidFill>
              <a:latin typeface="Times New Roman"/>
            </a:endParaRPr>
          </a:p>
        </p:txBody>
      </p:sp>
      <p:sp>
        <p:nvSpPr>
          <p:cNvPr id="109" name=""/>
          <p:cNvSpPr/>
          <p:nvPr/>
        </p:nvSpPr>
        <p:spPr>
          <a:xfrm>
            <a:off x="7089840" y="5334120"/>
            <a:ext cx="1409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Western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Hemisphere</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7%</a:t>
            </a:r>
            <a:endParaRPr b="0" lang="en-US" sz="1800" spc="-1" strike="noStrike">
              <a:solidFill>
                <a:srgbClr val="ffffcc"/>
              </a:solidFill>
              <a:latin typeface="Times New Roman"/>
            </a:endParaRPr>
          </a:p>
        </p:txBody>
      </p:sp>
      <p:sp>
        <p:nvSpPr>
          <p:cNvPr id="110" name=""/>
          <p:cNvSpPr/>
          <p:nvPr/>
        </p:nvSpPr>
        <p:spPr>
          <a:xfrm>
            <a:off x="6705720" y="5181480"/>
            <a:ext cx="68580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1" name=""/>
          <p:cNvSpPr/>
          <p:nvPr/>
        </p:nvSpPr>
        <p:spPr>
          <a:xfrm>
            <a:off x="3886200" y="2209680"/>
            <a:ext cx="152280" cy="4572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a:off x="6402240" y="1676520"/>
            <a:ext cx="75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Other</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7%</a:t>
            </a:r>
            <a:endParaRPr b="0" lang="en-US" sz="1800" spc="-1" strike="noStrike">
              <a:solidFill>
                <a:srgbClr val="ffffcc"/>
              </a:solidFill>
              <a:latin typeface="Times New Roman"/>
            </a:endParaRPr>
          </a:p>
        </p:txBody>
      </p:sp>
      <p:sp>
        <p:nvSpPr>
          <p:cNvPr id="113" name=""/>
          <p:cNvSpPr/>
          <p:nvPr/>
        </p:nvSpPr>
        <p:spPr>
          <a:xfrm flipV="1">
            <a:off x="6172200" y="2286000"/>
            <a:ext cx="380880" cy="4572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1828440" y="5181480"/>
            <a:ext cx="762120" cy="6098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66"/>
                </a:solidFill>
                <a:latin typeface="Times New Roman"/>
              </a:rPr>
              <a:t>Estimated Population Growth Rates</a:t>
            </a:r>
            <a:br>
              <a:rPr sz="3600"/>
            </a:br>
            <a:r>
              <a:rPr b="0" i="1" lang="en-US" sz="2800" spc="-1" strike="noStrike">
                <a:solidFill>
                  <a:srgbClr val="ffcc66"/>
                </a:solidFill>
                <a:latin typeface="Times New Roman"/>
              </a:rPr>
              <a:t>(1998-2020)</a:t>
            </a:r>
            <a:endParaRPr b="0" i="1" lang="en-US" sz="2800" spc="-1" strike="noStrike">
              <a:solidFill>
                <a:srgbClr val="ffcc66"/>
              </a:solidFill>
              <a:latin typeface="Times New Roman"/>
            </a:endParaRPr>
          </a:p>
        </p:txBody>
      </p:sp>
      <p:graphicFrame>
        <p:nvGraphicFramePr>
          <p:cNvPr id="116" name=""/>
          <p:cNvGraphicFramePr/>
          <p:nvPr/>
        </p:nvGraphicFramePr>
        <p:xfrm>
          <a:off x="685800" y="2057400"/>
          <a:ext cx="7770960" cy="4114800"/>
        </p:xfrm>
        <a:graphic>
          <a:graphicData uri="http://schemas.openxmlformats.org/presentationml/2006/ole">
            <p:oleObj r:id="rId1" spid="">
              <p:embed/>
              <p:pic>
                <p:nvPicPr>
                  <p:cNvPr id="117" name="" descr=""/>
                  <p:cNvPicPr/>
                  <p:nvPr/>
                </p:nvPicPr>
                <p:blipFill>
                  <a:blip r:embed="rId2"/>
                  <a:stretch/>
                </p:blipFill>
                <p:spPr>
                  <a:xfrm>
                    <a:off x="685800" y="2057400"/>
                    <a:ext cx="7770960" cy="4114800"/>
                  </a:xfrm>
                  <a:prstGeom prst="rect">
                    <a:avLst/>
                  </a:prstGeom>
                  <a:ln w="0">
                    <a:noFill/>
                  </a:ln>
                </p:spPr>
              </p:pic>
            </p:oleObj>
          </a:graphicData>
        </a:graphic>
      </p:graphicFrame>
      <p:sp>
        <p:nvSpPr>
          <p:cNvPr id="118" name=""/>
          <p:cNvSpPr/>
          <p:nvPr/>
        </p:nvSpPr>
        <p:spPr>
          <a:xfrm>
            <a:off x="284760" y="6335640"/>
            <a:ext cx="201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Source: United Nations</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80520"/>
            <a:ext cx="830592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New Agriculture Advances Critical </a:t>
            </a:r>
            <a:endParaRPr b="0" i="1" lang="en-US" sz="4400" spc="-1" strike="noStrike">
              <a:solidFill>
                <a:srgbClr val="ffcc66"/>
              </a:solidFill>
              <a:latin typeface="Times New Roman"/>
            </a:endParaRPr>
          </a:p>
        </p:txBody>
      </p:sp>
      <p:sp>
        <p:nvSpPr>
          <p:cNvPr id="12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lobal Agricultural production capacity must increase substantially to meet future food deman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gricultural efficiency in the countries experiencing the highest population growth must also be a top priorit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otechnology: An Important Step Toward Food Security</a:t>
            </a:r>
            <a:endParaRPr b="0" i="1" lang="en-US" sz="4400" spc="-1" strike="noStrike">
              <a:solidFill>
                <a:srgbClr val="ffcc66"/>
              </a:solidFill>
              <a:latin typeface="Times New Roman"/>
            </a:endParaRPr>
          </a:p>
        </p:txBody>
      </p:sp>
      <p:sp>
        <p:nvSpPr>
          <p:cNvPr id="12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Just as technical advances spurred the last “Green Revolution” so too will biotechnology form the basis of the “Doubly Green Revolution” of the next century.</a:t>
            </a:r>
            <a:endParaRPr b="0" lang="en-US" sz="3200" spc="-1" strike="noStrike">
              <a:solidFill>
                <a:srgbClr val="ffffcc"/>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5880" indent="-335880">
              <a:spcBef>
                <a:spcPts val="799"/>
              </a:spcBef>
              <a:buClr>
                <a:srgbClr val="ffcc66"/>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where will this be more so than in the Asia-Pacifi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447560"/>
            <a:ext cx="80773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otechnology &amp; The Asia-Pacific</a:t>
            </a:r>
            <a:endParaRPr b="0" i="1" lang="en-US" sz="4400" spc="-1" strike="noStrike">
              <a:solidFill>
                <a:srgbClr val="ffcc66"/>
              </a:solidFill>
              <a:latin typeface="Times New Roman"/>
            </a:endParaRPr>
          </a:p>
        </p:txBody>
      </p:sp>
      <p:sp>
        <p:nvSpPr>
          <p:cNvPr id="124"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The State of the Industry Today</a:t>
            </a:r>
            <a:endParaRPr b="0" lang="en-US" sz="4000" spc="-1" strike="noStrike">
              <a:solidFill>
                <a:srgbClr val="ffffcc"/>
              </a:solidFill>
              <a:latin typeface="Times New Roman"/>
            </a:endParaRPr>
          </a:p>
        </p:txBody>
      </p:sp>
      <p:pic>
        <p:nvPicPr>
          <p:cNvPr id="125" name="" descr=""/>
          <p:cNvPicPr/>
          <p:nvPr/>
        </p:nvPicPr>
        <p:blipFill>
          <a:blip r:embed="rId1"/>
          <a:stretch/>
        </p:blipFill>
        <p:spPr>
          <a:xfrm>
            <a:off x="7289640" y="5521320"/>
            <a:ext cx="1854360" cy="133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otechnology in China </a:t>
            </a:r>
            <a:endParaRPr b="0" i="1" lang="en-US" sz="4400" spc="-1" strike="noStrike">
              <a:solidFill>
                <a:srgbClr val="ffcc66"/>
              </a:solidFill>
              <a:latin typeface="Times New Roman"/>
            </a:endParaRPr>
          </a:p>
        </p:txBody>
      </p:sp>
      <p:sp>
        <p:nvSpPr>
          <p:cNvPr id="1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ina has approved roughly 50 genetically enhanced  plant varieties and several more are in the testing stage.</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rops enhanced through biotechnology now cover 1 million hectares of land in China and this land area is expanding rapidl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ailand &amp; The Philippines</a:t>
            </a:r>
            <a:endParaRPr b="0" i="1" lang="en-US" sz="4400" spc="-1" strike="noStrike">
              <a:solidFill>
                <a:srgbClr val="ffcc66"/>
              </a:solidFill>
              <a:latin typeface="Times New Roman"/>
            </a:endParaRPr>
          </a:p>
        </p:txBody>
      </p:sp>
      <p:sp>
        <p:nvSpPr>
          <p:cNvPr id="129"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ailand has looked to biotechnology to increase yields and lower production costs, not only to enhance domestic food security, but also to maximize export profits.</a:t>
            </a:r>
            <a:endParaRPr b="0" lang="en-US" sz="3200" spc="-1" strike="noStrike">
              <a:solidFill>
                <a:srgbClr val="ffffcc"/>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298440" indent="-2984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Philippines has placed biotechnology at the center of its national strategy to boost agricultural production and has increased R&amp;D expenditures on biotechnology 20 fol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22:20:10Z</dcterms:created>
  <dc:creator>Type Your Name Here</dc:creator>
  <dc:description/>
  <dc:language>en-US</dc:language>
  <cp:lastModifiedBy>Type Your Name Here</cp:lastModifiedBy>
  <cp:lastPrinted>2000-03-09T15:03:40Z</cp:lastPrinted>
  <dcterms:modified xsi:type="dcterms:W3CDTF">2000-03-10T21:29:16Z</dcterms:modified>
  <cp:revision>27</cp:revision>
  <dc:subject/>
  <dc:title>Biotechnology and and WTO rules</dc:title>
</cp:coreProperties>
</file>