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6A7-DEDF-4E84-A264-805DDF57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7BE-D3FB-4582-9876-AA9F5FBC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F5F-BE26-4D5F-A01A-7134B48A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2DE-AF1F-4E3A-80FE-7CA782DF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12E9-5050-46CA-8F5D-AC4C5C1A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1A90-DB08-4629-AA9B-A2FB8466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DBB8-26A1-4842-A31B-1EED8DEB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B60E-AB41-45A8-875C-2EF2F96C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68A7-3ACB-4C49-8DF8-6076FD1F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CD62-7084-43CA-A2AD-D713F3D3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D4B2-ADCD-417B-91B2-4F539A5F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24B-E035-4B85-AAEC-BE568CF2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E4E1-49B7-4C01-9AFC-93D7F87C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3F97-F80F-4FD5-8F93-0D8CF360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F5B0-F3F0-47B5-ADFD-2241F72B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A39D-0873-4223-822D-35C903E6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B9C3-F16B-4919-9949-ADBE354F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952-9B97-402A-9D7F-1A360CCA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CCF-C0E9-4616-B76F-482C91EB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3ACB-698C-41C4-B29F-9AC6E8F1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D1B-6327-404C-93FD-4AFE2A01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394A-CC01-46DD-8EE1-EA59DA8C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BAE-81D7-41A2-B959-EEA21DAB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1E4-2834-468F-AC11-AC2E0B1C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533376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Washington State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3200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7370-FB78-4E56-AA5F-5C736BE5C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E4F1-8243-42E2-B869-5B384AF56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42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ames J. Zuich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omas I. Wah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rginia N. Hil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lergenici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65744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% of rea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lk, eggs, peanuts, soybeans, tree nuts, fish, crustacea, whe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0 foods documented to cause rea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19143" descr=""/>
          <p:cNvPicPr/>
          <p:nvPr/>
        </p:nvPicPr>
        <p:blipFill>
          <a:blip r:embed="rId2"/>
          <a:stretch/>
        </p:blipFill>
        <p:spPr>
          <a:xfrm>
            <a:off x="4788000" y="1657440"/>
            <a:ext cx="374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lergenici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foo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erring proteins from known allergenic requires high standard of proo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yze amino acid seque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azil nu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 into soybea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ed and discontinu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mproving Nutr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65744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d amino acids, vitamins, antioxidants, flavonoids, fiber, better quality oi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 nutritionally incomplete fo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min A and iron in r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19097" descr=""/>
          <p:cNvPicPr/>
          <p:nvPr/>
        </p:nvPicPr>
        <p:blipFill>
          <a:blip r:embed="rId2"/>
          <a:stretch/>
        </p:blipFill>
        <p:spPr>
          <a:xfrm>
            <a:off x="5046840" y="1657440"/>
            <a:ext cx="33066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ealth Promot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cer ris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oxid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cine or vaccine carrying pl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ty cro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traditional or underutilized cro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er foods to reduce disease or canc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12233" descr=""/>
          <p:cNvPicPr/>
          <p:nvPr/>
        </p:nvPicPr>
        <p:blipFill>
          <a:blip r:embed="rId2"/>
          <a:stretch/>
        </p:blipFill>
        <p:spPr>
          <a:xfrm>
            <a:off x="4978440" y="1657440"/>
            <a:ext cx="35146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st generation biotech foo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 producer c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outpu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gener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 consumers direct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rition, disease/cancer figh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d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iver medicine or vacc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backlas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vironmental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g-run health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confide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 52%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 75%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ust functions as a substitute for knowledge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and Tra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029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Safety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S, TBT, Codex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rds &amp; guidelines for food quality and safe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ect public health and environment from pests, diseases, contamin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be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39132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07656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Labeling Iss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being labeled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ritional aspects, the process or the assurance that the product meets quality standard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m is the labeling fo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or, marketer, public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thods used to determine cont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rtification, verification and preserv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Labeling Iss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eshold concentration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e or negative label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gregation from harvest-to-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ntary or mandator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ational harmoniz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ribute costs of labe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, processor, marketer, retail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and costs for public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and Conclu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Safety is about human heal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tech allows targeting specific characteris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xic, allergencity iss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beling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research needed to understanding risks, benefits and costs of biotechnology and food safe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854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ag biotechnolog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effects on safe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od safety &amp; tra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 and conclu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42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ames J. Zuich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omas I. Wah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rginia N. Hil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ing Ag Biotechn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erring genetic mate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ronom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ter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t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ss-bree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tech t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ning, genomics, gene splicing, marker assisted bree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19335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213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Ag Produ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ist insect pests and viru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t corn, potatoes, and cot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acillus thuringiensi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toxic to insect pe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ss-prot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tatoes, squash, papay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lerate herbici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undup Ready” soybe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tial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 vs potential ris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natu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d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vironmental concer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er wee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advertent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terfl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39314" descr=""/>
          <p:cNvPicPr/>
          <p:nvPr/>
        </p:nvPicPr>
        <p:blipFill>
          <a:blip r:embed="rId2"/>
          <a:stretch/>
        </p:blipFill>
        <p:spPr>
          <a:xfrm>
            <a:off x="4659480" y="1676520"/>
            <a:ext cx="3936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g term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tific community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3 lett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4 NAS moratori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IH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DA, FDA, E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ordinated frame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 Regulatory Syste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tifically-based, case-by-c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hazard ID and risk assess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tes end product rather tha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s on existing institu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d regulation after demonstrating low ris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and Food Safe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x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rgenic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ing nutr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lth promo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19330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124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xi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029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ural tox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ccoli, legumes, squash, cucumbers, cel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sava toxin leve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cause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breed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w analytical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r analysis standards for biotech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12010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3703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04:48:31Z</dcterms:created>
  <dc:creator>wahl</dc:creator>
  <dc:description/>
  <dc:language>en-US</dc:language>
  <cp:lastModifiedBy>wahl</cp:lastModifiedBy>
  <cp:lastPrinted>2000-03-14T16:34:13Z</cp:lastPrinted>
  <dcterms:modified xsi:type="dcterms:W3CDTF">2000-03-14T23:02:39Z</dcterms:modified>
  <cp:revision>29</cp:revision>
  <dc:subject/>
  <dc:title>Food Safety and Biotechnology</dc:title>
</cp:coreProperties>
</file>