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5EB-2008-41A4-AD44-3857B80D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1EF-C7AE-4F20-AF78-98F1C95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6CB-5B44-4128-A7D9-BF7DF307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803-E051-4F63-A7D2-D504FA31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E7B7-B0D9-4008-A095-FFA8DCBA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504E-DE19-4DD5-A998-3001C7C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746-E72C-45C8-9CCA-F951A43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7870-551E-4292-BEFF-FB250A01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0243-FFA9-443F-A974-3895B6A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AE06-F228-42FB-9EF0-5C34BAB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F6F-EB87-40AB-9EF5-0C77B49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E2F-8788-4CEF-AD4B-1ADCA92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2DF5-8A52-4ECE-AC00-B39B3D0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921-61BD-4746-ACFA-AA17489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B53D-87BC-4D9F-9D41-C69264E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74F8-C9C7-41B0-BCEC-716AE75F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F38C-B7F3-4D0F-AA0F-A446FA1A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03F-5392-4FDE-BFA8-CF68321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845-E3E1-409E-A773-9EDDF20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3F9-A420-4FC5-AE70-46942F7E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3E3-B3BF-43E0-ACDE-17FDB720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D8B-DC1F-4130-B119-F6D7C73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59A-5D92-472C-9EA4-432B7F0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7A0-2413-4642-81AC-12626D23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D37-E061-4495-A32F-1044193A87C9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687-A60B-418C-8CC6-931D1623F9C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970-144C-443C-A2EB-F3705B6E6CB6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AFC1-A1C5-4AE1-929C-7D615A587DC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DUCER BENEFI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5FDE02-4271-4B73-BA2C-1578C9FAAB7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ridge the “biotechnology gap” by encouraging capacity building in developing countries through multilateral collaboratio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B097E-C4A2-4D19-B27B-70DB11BD75B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eate a “technology culture” in the food sec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756FF-3575-4F1C-B9FC-C0145482BFC3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hat producers have adequate and appropriate information and knowled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best practice models for information dissemination, distance learning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585D6-1915-49D0-AF02-D155B812C53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countries to comply with their WTO/TRIPS obligati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will support APEC efforts to strengthen Individual Action Plan Monitor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CB55A-9841-4987-8EFA-FFF95BAF7F9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iotechnology as an opportunity for environmentally sustainable production system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rm strategic alliances with NGO groups who are open to dialogu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03FC-3614-43D1-9AD2-E9E216A6373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to poll members for positive examples -- identify, document, shar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1D8B7-321F-422E-A236-871E97FF94AC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gulatory Frame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hieve transparent, science-based and affordable regulatory frameworks in all jurisdictions and multilatera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global harmonization and mutual recognition agree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4B21A-D085-4D53-A52A-18B4801AA66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Acces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iminate barriers to the free trade of biotechnology products within a science-based SPS framework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mplement the APEC Food System with respect to biotechnolog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Alan’s Group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97CF5-DEF3-4E95-8383-AD75C8AF38C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ain consumer acceptance of biotechnology products,but recognize that identity preservation may be required by consumers for ethical, religious or value-added reason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5BDA4-EF03-45B3-8FAA-90887D52990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ggressive, fact-based communication campaign that educates / enlists the med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rusted web-based inform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Group on Consumer Percep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8F6BE-8137-4109-A290-DC05E4907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ssion/Vision Stat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ll food producers and processors have the opportunity to secure the benefits of biotechnolog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B3B14-E9F4-44F5-A534-54878452C16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producers have full knowledge of consumer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vestigate web based deliver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PEC Study Center Consortium to become a virtual delivery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F3F7B-0C82-4A1B-B1D5-41666A895E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luding issues around availability and fund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8AE23-CBCF-4527-A363-B54C8FF5906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ewardship and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395E8-43C9-4CF2-85D6-F8AC797EBE5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gulatory Framework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osafety, environmental risk man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C8E1-36FF-4C72-9C10-3B02E63D214E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7957A-C466-408D-B1A7-84A79E678B1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umer Accept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F753C-7BBE-4FCA-BC8E-6A07D2F7AD93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FA5F4-449E-4900-9123-13F62348F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ect I.P. rights essential to private sector R&amp;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public investment in biotech, e.g.: public research, education/training and public food research where there is no perceived commercial gai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7A876-148D-4D81-A993-95DB022074B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8:08:01Z</dcterms:created>
  <dc:creator>Bonnie E. Raquet</dc:creator>
  <dc:description/>
  <dc:language>en-US</dc:language>
  <cp:lastModifiedBy>Tim Jobe</cp:lastModifiedBy>
  <dcterms:modified xsi:type="dcterms:W3CDTF">2000-03-29T20:12:12Z</dcterms:modified>
  <cp:revision>4</cp:revision>
  <dc:subject/>
  <dc:title>PRODUCER BENEFITS</dc:title>
</cp:coreProperties>
</file>