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7D70-F873-4D08-BB90-8A4510236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BB8D-F65D-4FA0-8314-36F4DE20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11D3-6240-4E07-9AF4-16CAE78FF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E785-C98B-4D24-BB5D-9496325C8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900B-7FA0-406E-B46B-D47670251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6727-AA13-4017-AC6A-A4D19C8A4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586E-B10A-442A-9333-DC7128AC1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F298-C9F7-491C-89EB-4693C21A4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3CF2-7999-4316-8555-E291148F0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0779-AE78-497C-A5E4-79065F6F4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FB12-5E55-4DAF-9EAF-EE26195E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D948-AD2B-47E5-933B-84FB7745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B5FD-9B6E-44A9-A07C-FFC762DAF0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vironmental Prot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ission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 the environment and quality of life through bio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ATEG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 Enhancement of the environment will be an integral part of development and use of any biotechnology initiative or produ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 Proactively communicate the opportunities to improve the environment and quality of life through biotechnolog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CTICS FOR STRATEGY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evelop a model to incorporate environmental considerations into biotechnology R &amp;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 Conference or working group to initiate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CC and PBE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:  Post-November 2000 (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elicit political support within the countries through the united efforts of PBEC, ABAC, and PEC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ch through November 2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EC takes leadership ro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 Countries identify and publicize the benefits and needs of biotechnology for their growth and development (ready for conference under (A.i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cus paper for APEC ATC on benefits of biotechnology on the enviro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: May 2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k Foundation Financial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:  PBEC Food Commit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CTICS FOR STRATEGY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volve private sector, responsible environmental groups, and scientific organizations to proactively educate the policymakers, the media, and the publ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zing positive results i.e., the environmental enhancement, nutrition enhanc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ilor messages to various stakehol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age foundations in promoting biotechnology for environmental preservation and enhanc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:  March 2000 and ongo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8T05:50:15Z</dcterms:created>
  <dc:creator>DJR</dc:creator>
  <dc:description/>
  <dc:language>en-US</dc:language>
  <cp:lastModifiedBy>Default</cp:lastModifiedBy>
  <dcterms:modified xsi:type="dcterms:W3CDTF">2000-03-17T20:33:18Z</dcterms:modified>
  <cp:revision>2</cp:revision>
  <dc:subject/>
  <dc:title>Environmental Protection</dc:title>
</cp:coreProperties>
</file>