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49B-4EA2-461B-A5C0-6985BB9C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D67-D350-431B-B8F5-9199C828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A6F6-1787-451F-B7C5-A56072A8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290-65F3-41BB-8C5D-105C2A3F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9CF7-E099-4578-B8B8-406B2375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5259-F702-4B71-A09D-A7EE9902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895F-BBD0-4BF0-B14E-FCD5B8AB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CF13-90CC-400F-B0C1-0EDA53EA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52B8-974E-4B49-8C9F-BA672ADD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26A8-C412-4D68-BE9A-AC6B86DA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D676-328B-449A-AD06-FC948882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C67-A8C4-4BBA-B94C-FC71F560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AA5D-FD7A-45B0-A351-AD415D23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CDC9-0E1E-4A2D-A8CE-FFE0EB6D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6BD5-BDE0-4B08-A5C6-008CAC1C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11DD-D4FF-4631-95B7-BF76AB89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1D43-36FD-4204-8466-8E3D125B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5093-B546-402F-AB42-628B8466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3F3D-AFD0-44F1-84C6-CB66A165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914-C063-4EC9-82E8-2E264F74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AC56-F244-41B1-83F5-A2C274A1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0D76-9151-440C-99D6-C0CC341F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6BE-2A17-4AE3-B9A9-0599C7E0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684A-A0CD-4AFF-90A6-A439F98F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E2EE-6E05-4654-A953-54CC5EB76B9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1787-CD57-4548-A7CA-BF6E9CCB1721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nsumer Benefits, Perception and Educ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Mis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 facilitate consumer confidence and trust in biotechnolog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o achieve a state where consumers, and those who make decisions that affect consumption, understand and accept the benefits and buy food produc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Strategies and Tac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1. </a:t>
            </a: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Preparation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ssemble the facts – science proof, cases (Biosummit –common place for ongoing discussion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ssemble the questions – dialogue, understand the consumers needs and concern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dentify credible messengers – who people tru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nderstand the constituencies – target groups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armonisation of regulations/standards/messages – to meet consumer concerns and increase tru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2. Create a Common Objective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around a high level global goal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e need to feed people – population growth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ve the imperative of the food security proble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ve the compelling case of biotech as an important solu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Quantity – intensification of production, disease/storag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Quality – nutritional enhancement, designer food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Resources – water, land, nutrient inputs, energ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ustainable – future generations, economic, social and environmental sustainabilit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3. Implementation </a:t>
            </a:r>
            <a:br>
              <a:rPr sz="4400"/>
            </a:b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to address each consumer’s fea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ational &amp; regional programmes t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timulate communication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Generate trus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rganise/motivate identified messengers – provide with common, effective, understandable messages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nsure “real safety” information is communicated within the greater food/nutrition perspectiv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hoice – labelling ques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3. Implementation 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(continued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ssembling concrete evidence of benefi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uture economics – food suppl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ther national cases – developing economi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howing benefits compared with traditional method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ood aid programme benefits – Vit A, Fe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ocial, ecological and economic impact stud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ice/cost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A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reate the imperative story for food security and increased food produc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lect a credible international body (vehicle) to sponsor the actions eg WHO, WB, ADB etc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dentify credible groups to conduct each component of the “preparation”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t parameters for official development assistance earmarked for food security and increased food production – eg. x% GDP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ime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recommendations and message need to be actively presented and promoted to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rch: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PEC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y: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g Tech Coop Experts (Govt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BAC (Business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June: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rade Minist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v: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port to Lead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In addition to the above, participants should actively promote the recommendations and message within their own countrie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4191120"/>
            <a:ext cx="1905120" cy="1904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1828800"/>
            <a:ext cx="2971800" cy="3048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-990720"/>
            <a:ext cx="4419720" cy="4343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2286000"/>
            <a:ext cx="2209680" cy="19810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419720"/>
            <a:ext cx="685800" cy="7617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676160" y="4419720"/>
            <a:ext cx="533160" cy="7617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5181480"/>
            <a:ext cx="838080" cy="2286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343400" y="2819520"/>
            <a:ext cx="1371600" cy="3808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819520" y="3200040"/>
            <a:ext cx="1523880" cy="3049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562360" y="762120"/>
            <a:ext cx="2057400" cy="11430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314840" y="762120"/>
            <a:ext cx="304920" cy="25905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716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4952880"/>
            <a:ext cx="990720" cy="2286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219320" y="5181480"/>
            <a:ext cx="457200" cy="8384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840" y="46483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Evaluation &amp;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Exchange System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03840" y="4264200"/>
            <a:ext cx="913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Assemble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Social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Understanding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2520" y="4648320"/>
            <a:ext cx="66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Create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Common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Objective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8400" y="525456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Start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Harmonisation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2120" y="51022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Assemble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Fact Base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55960" y="491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0960" y="28195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Evaluation &amp;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Exchange Syste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920" y="20574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Education &amp;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Training of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Messeng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36440" y="3084480"/>
            <a:ext cx="101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National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Programm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91480" y="3886200"/>
            <a:ext cx="77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Ongoing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Summit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3240" y="3581280"/>
            <a:ext cx="116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Harmonisa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(Continued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4196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09680" y="2895120"/>
            <a:ext cx="6934320" cy="3048120"/>
          </a:xfrm>
          <a:prstGeom prst="line">
            <a:avLst/>
          </a:prstGeom>
          <a:ln w="936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990720" y="-304920"/>
            <a:ext cx="4952880" cy="4724640"/>
          </a:xfrm>
          <a:prstGeom prst="line">
            <a:avLst/>
          </a:prstGeom>
          <a:ln w="936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5960" y="533520"/>
            <a:ext cx="163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Evaluation &amp;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Exchange System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-304920"/>
            <a:ext cx="1676520" cy="10670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880" y="3200400"/>
            <a:ext cx="457200" cy="16002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0120" y="762120"/>
            <a:ext cx="1904760" cy="16761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620120" y="-381240"/>
            <a:ext cx="1523880" cy="11430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7T04:24:08Z</dcterms:created>
  <dc:creator>Default</dc:creator>
  <dc:description/>
  <dc:language>en-US</dc:language>
  <cp:lastModifiedBy>Default</cp:lastModifiedBy>
  <dcterms:modified xsi:type="dcterms:W3CDTF">2000-03-17T20:19:26Z</dcterms:modified>
  <cp:revision>13</cp:revision>
  <dc:subject/>
  <dc:title>Consumer Benefits, Perception and Education</dc:title>
</cp:coreProperties>
</file>