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07D-2193-43FB-AD87-D457544E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7F7-94A4-4BD7-89A7-2014527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647-2DE6-4661-A3E1-60A80661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9F3-599F-4E39-97DC-1730EEDD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137A-FCBA-4FCB-8C19-18439D67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E0E5-9342-4572-B5CE-D2BF527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AFE7-8B29-42E1-9244-5CD0A90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EBDB-6489-47C8-B9F2-36DFB120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C1A6-7C53-4BAD-8389-77F499BA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A635-B13F-493F-B13B-4DF9BCCC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EF2B-D960-41B7-93E7-1FA3E84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7D6-4D94-49AA-B733-6D04FDCB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DEC8-CD04-48A1-B3AB-816AD1FD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B61D-B062-4E4F-99EC-F2579F23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530A-CCAD-4F51-83D9-E44937D9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DF9C-81FE-4899-ABD5-7D6B4773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6FCA-86F4-41F0-B862-712BF50C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2AE-EE60-439D-AB54-1B602DAC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5BB-E6FC-4F6E-B4DF-79C76FAC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117-9213-4FCD-931E-5413B276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217-CE18-4FB4-B8AB-FD6AC730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F95-75B9-40B7-AFEC-848C559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EA6-A024-4472-A4AF-56E7FDD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795-F0D1-42C5-B80E-07DFE049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982-992F-42C5-939D-2D1A5F94D180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73E5-AF3E-4776-8380-75ED5CEDF28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6B56-3793-4281-8986-2677A4AAC8C5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16A2-EAC7-44E7-8160-737C39B205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DUCER BENEFI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3820E61-5CE0-4473-B2DE-FB887338C31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ridge the “biotechnology gap” by encouraging capacity building in developing countries through multilateral collaboratio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87267-7D0F-4691-B7F9-C98EC6D3E9DB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eate a “technology culture” in the food sect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E7D8E-3E7D-4F94-B1E7-26D654DB5846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hat producers have adequate and appropriate information and knowled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best practice models for information dissemination, distance learning, etc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C46A5-F179-4728-B59A-8DF8ECB4B4D0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countries to comply with their WTO/TRIPS obligation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will support APEC efforts to strengthen Individual Action Plan Monitor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C42E1-E617-4951-8CCF-622A6BA1A8C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iotechnology as an opportunity for environmentally sustainable production system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rm strategic alliances with NGO groups who are open to dialogu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A6F64-5C2F-4E37-8864-A496CA21E3C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to poll members for positive examples -- identify, document, share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BC30B-E8FE-44D1-A51E-2F7D1CB4029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egulatory Framewor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hieve transparent, science-based and affordable regulatory frameworks in all jurisdictions and multilateral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port global harmonization and mutual recognition agreem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001F7-A3FF-40AE-97B4-A52D67E131A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 Acces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iminate barriers to the free trade of biotechnology products within a science-based SPS framework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mplement the APEC Food System with respect to biotechnolog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Alan’s Group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025FB-2E23-41EE-BEF4-0140E9280379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ain consumer acceptance of biotechnology products,but recognize that identity preservation may be required by consumers for ethical, religious or value-added reason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F4167-B447-445A-9E42-E37E03C344E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ggressive, fact-based communication campaign that educates / enlists the med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rusted web-based inform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Group on Consumer Percep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03ACB-B0D0-4B96-A352-DC121C6262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ission/Vision Stat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ll food producers and processors have the opportunity to secure the benefits of biotechnology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3A11C-1948-4E19-879D-B4811079D739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producers have full knowledge of consumer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vestigate web based deliver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PEC Study Center Consortium to become a virtual delivery ce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E0360-12E4-4FF3-9F73-5C056254DE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cluding issues around availability and fund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322E0-80B9-4BA1-B9B7-549778BB3CDB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ewardship and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8BBA4-CE3B-4BA1-BE3A-7412201152F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gulatory Framework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iosafety, environmental risk manag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A7C67-328F-4750-A2A6-77E960BC577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975AA-70C2-49FB-A76B-CD790FE1465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umer Acceptan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38D2-8FEA-47DB-9A31-C059110BEBE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23F2A-432E-43AB-9A46-1142A44FE2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ect I.P. rights essential to private sector R&amp;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public investment in biotech, e.g.: public research, education/training and public food research where there is no perceived commercial gai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0B887-89D7-4EAE-9556-1AC0E5DF8468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8:08:01Z</dcterms:created>
  <dc:creator>Bonnie E. Raquet</dc:creator>
  <dc:description/>
  <dc:language>en-US</dc:language>
  <cp:lastModifiedBy>Tim Jobe</cp:lastModifiedBy>
  <dcterms:modified xsi:type="dcterms:W3CDTF">2000-03-29T20:12:12Z</dcterms:modified>
  <cp:revision>4</cp:revision>
  <dc:subject/>
  <dc:title>PRODUCER BENEFITS</dc:title>
</cp:coreProperties>
</file>