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91C-FABC-4D8C-A8CB-D7A7AED2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FA6-D061-4A70-AA0C-582FC08C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D8F-8538-42CB-B9D2-AE1085F7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524-530E-4051-B38C-5481E6E9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27A2-5267-4AC7-8F86-3DDCC660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8E31-42E6-4C41-91C4-8FA83758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531A-F275-4784-9BF3-5EA20AFA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80CD-C346-4452-95A0-E4E5A82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5298-39B3-4B59-931E-06FF5C88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4133-208C-4C1A-9DF3-6CDF834C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5B17-FAD7-4085-9D34-309E7CFC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51B-C7EA-4BF3-8963-43EC4833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8566-0448-4376-A8DF-F42F9F8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BDE5-0346-4B77-8C33-2771D019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01E2-64E3-40F3-90B5-E54AD66D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150E-4AED-41F4-A829-79C99FFF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3556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99880" y="4648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37160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3556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99880" y="5564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7348-E6F3-445D-86A7-95E71476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792-28EC-4452-BC81-2ACAF908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C04-F6D5-439F-A4D6-5C597287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BA9-4FB5-457D-A94A-8F1797C4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E34-6673-41FA-BF5C-46BF157D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5E4-04C2-4B88-B67E-F9F2046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51560" y="5564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947A-5CDE-4E31-8E22-8B827562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648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5564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889-2BDE-4AD3-9362-A2D446DE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9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407960" indent="-20088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810440" indent="-2008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810440" indent="-2008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53337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Washington State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3200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B06F-9476-4816-BD9A-614A7C7F0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24C0-1C64-49B2-A4A5-72D033BEDF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% of rea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lk, eggs, peanuts, soybeans, tree nuts, fish, crustacea, whe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0 foods documented to cause rea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19143" descr=""/>
          <p:cNvPicPr/>
          <p:nvPr/>
        </p:nvPicPr>
        <p:blipFill>
          <a:blip r:embed="rId2"/>
          <a:stretch/>
        </p:blipFill>
        <p:spPr>
          <a:xfrm>
            <a:off x="4788000" y="1657440"/>
            <a:ext cx="374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ergenici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proteins from known allergenic requires high standard of proo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amino acid sequen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razil nu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 into soybea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ed and discontinu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roving Nutr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65744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d amino acids, vitamins, antioxidants, flavonoids, fiber, better quality o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 nutritionally incomplete foo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amin A and iron in r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19097" descr=""/>
          <p:cNvPicPr/>
          <p:nvPr/>
        </p:nvPicPr>
        <p:blipFill>
          <a:blip r:embed="rId2"/>
          <a:stretch/>
        </p:blipFill>
        <p:spPr>
          <a:xfrm>
            <a:off x="5046840" y="1657440"/>
            <a:ext cx="33066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lth Promot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cer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oxid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cine or vaccine carrying pl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ty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traditional or underutilized cr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er foods to reduce disease or canc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12233" descr=""/>
          <p:cNvPicPr/>
          <p:nvPr/>
        </p:nvPicPr>
        <p:blipFill>
          <a:blip r:embed="rId2"/>
          <a:stretch/>
        </p:blipFill>
        <p:spPr>
          <a:xfrm>
            <a:off x="4978440" y="1657440"/>
            <a:ext cx="3514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st generation biotech foo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 producer c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outp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generatio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 consumers direc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, disease/cancer figh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d qu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iver medicine or vacc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backla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-run health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confid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 52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 75%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st functions as a substitute for knowledge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Tra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S, TBT, Codex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s &amp; guidelines for food quality and 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 public health and environment from pests, diseases, contamin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39132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07656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being labeled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utritional aspects, the process or the assurance that the product meets quality standard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m is the labeling fo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sor, marketer,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thods used to determine cont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rtification, verification and preserv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Labeling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shold concentratio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itive or negative label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gregation from harvest-to-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luntary or mandator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ational harmon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ribute costs of labe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, processor, marketer, retaile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nefits and costs for public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od Safety is about human heal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allows targeting specific characteris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xic, allergencity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beling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rther research needed to understanding risks, benefits and costs of biotechnology and food safe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tech effects on safe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umer percep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od safety &amp; tra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 and 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42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od Safety and Biotechnolog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mes J. Zuich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omas I. Wah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rginia N. Hill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ing Ag Biotechnolog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ring genetic mate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ronom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er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-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tech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ning, genomics, gene splicing, marker assisted br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19335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13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g Produ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ist insect pests and viru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t corn, potatoes, and cot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acillus thuringiensi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toxic to insect pe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-prot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tatoes, squash, papay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lerate herbicid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undup Ready” soybe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 vs potential ris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hical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na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d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vironmental conc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er wee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advertent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terfl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39314" descr=""/>
          <p:cNvPicPr/>
          <p:nvPr/>
        </p:nvPicPr>
        <p:blipFill>
          <a:blip r:embed="rId2"/>
          <a:stretch/>
        </p:blipFill>
        <p:spPr>
          <a:xfrm>
            <a:off x="4659480" y="1676520"/>
            <a:ext cx="3936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Food Concer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ng term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 community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3 lett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74 NAS morator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H guideli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DA, FDA, EP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d frame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 Regulatory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tifically-based, case-by-c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hazard ID and risk assess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ulates end product rather than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s on existing institu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d regulation after demonstrating low ris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iotech and Food Safet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rgenic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ing nutri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 promo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19330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124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xi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029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 tox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ccoli, legumes, squash, cucumbers, cel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ssava toxin leve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cause de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bree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w analytical stu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analysis standards for biotech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12010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3703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4:48:31Z</dcterms:created>
  <dc:creator>wahl</dc:creator>
  <dc:description/>
  <dc:language>en-US</dc:language>
  <cp:lastModifiedBy>wahl</cp:lastModifiedBy>
  <cp:lastPrinted>2000-03-14T16:34:13Z</cp:lastPrinted>
  <dcterms:modified xsi:type="dcterms:W3CDTF">2000-03-14T23:02:39Z</dcterms:modified>
  <cp:revision>29</cp:revision>
  <dc:subject/>
  <dc:title>Food Safety and Biotechnology</dc:title>
</cp:coreProperties>
</file>