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E2BD-03DD-4819-BC03-C5664E36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273-CD81-4D71-ADDD-53153F99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8E9-073A-4140-A03E-B7E37F01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3556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9988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37160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53556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69988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250-1EBF-486F-892C-13631D92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E6C3-F4CE-4AF2-AA62-1A7EBD65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0037-9007-42CF-8089-25917A1C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19C3-DF81-43A5-A76B-725600A3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B6DF-9812-4E9F-82C0-52869000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14CC-B043-4344-8595-3AFBF5C5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463A-49DD-4965-80F8-4A8AC7EA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F6E5-584C-406D-A56B-3867B934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0F7C-BEA8-4F53-9C40-AC25202C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0ACA-9713-436A-B206-27542F08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8581-516F-4287-9049-A7F653A5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ABA7-6885-42F9-9480-79AFF9D4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1361-28BD-4998-AA34-4DEB2E8D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3556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9988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37160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3556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69988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F964-55E8-4A5E-840F-313E4357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E92-F92F-47D4-9AD9-CEFCACC0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8048-48C8-4AEE-838E-7C5D85B2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74C2-FE2B-4841-BBE8-9E6D1966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87F-DA66-4338-AF2B-4F8525D8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BAE3-8E77-4416-8172-CD7668FF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E023-B162-4734-94BA-91D74196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B7C-AA2C-47BB-BFD2-2C51D720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9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2008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5333760" y="6400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Washington State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3200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C909-8E7F-480A-9512-EBB8F8FBD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5E1C-D687-445E-BD2B-C1EBC3A5D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342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od Safety and Biotechnolog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ames J. Zuich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omas I. Wah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rginia N. Hill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llergenicit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65744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% of reac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lk, eggs, peanuts, soybeans, tree nuts, fish, crustacea, whe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0 foods documented to cause rea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19143" descr=""/>
          <p:cNvPicPr/>
          <p:nvPr/>
        </p:nvPicPr>
        <p:blipFill>
          <a:blip r:embed="rId2"/>
          <a:stretch/>
        </p:blipFill>
        <p:spPr>
          <a:xfrm>
            <a:off x="4788000" y="1657440"/>
            <a:ext cx="374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llergenicit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otech foo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ferring proteins from known allergenic requires high standard of proo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yze amino acid seque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razil nu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 into soybea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ed and discontinu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mproving Nutr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65744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d amino acids, vitamins, antioxidants, flavonoids, fiber, better quality oi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hance nutritionally incomplete fo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tamin A and iron in r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19097" descr=""/>
          <p:cNvPicPr/>
          <p:nvPr/>
        </p:nvPicPr>
        <p:blipFill>
          <a:blip r:embed="rId2"/>
          <a:stretch/>
        </p:blipFill>
        <p:spPr>
          <a:xfrm>
            <a:off x="5046840" y="1657440"/>
            <a:ext cx="33066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ealth Promot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cer ris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ioxida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icine or vaccine carrying pla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ty cro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traditional or underutilized cro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er foods to reduce disease or canc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12233" descr=""/>
          <p:cNvPicPr/>
          <p:nvPr/>
        </p:nvPicPr>
        <p:blipFill>
          <a:blip r:embed="rId2"/>
          <a:stretch/>
        </p:blipFill>
        <p:spPr>
          <a:xfrm>
            <a:off x="4978440" y="1657440"/>
            <a:ext cx="35146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umer Percep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rst generation biotech foo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e producer c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outpu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genera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 consumers direct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utrition, disease/cancer figh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d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iver medicine or vacc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umer Percep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umer backlas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vironmental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g-run health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umer confide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 52%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 75%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ust functions as a substitute for knowledge”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and Trad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029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od Safety Stand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S, TBT, Codex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rds &amp; guidelines for food quality and safe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tect public health and environment from pests, diseases, contamina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be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39132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07656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Labeling Issu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being labeled: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utritional aspects, the process or the assurance that the product meets quality standard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m is the labeling for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or, marketer, public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thods used to determine cont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rtification, verification and preserv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Labeling Issu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eshold concentration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e or negative label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gregation from harvest-to-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luntary or mandatory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ational harmoniz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tribute costs of labe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, processor, marketer, retail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 and costs for public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and Conclus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od Safety is about human heal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tech allows targeting specific characterist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xic, allergencity iss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beling iss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rther research needed to understanding risks, benefits and costs of biotechnology and food safe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854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and Biotechnolog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ag biotechnolog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otech food concer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otech effects on safe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umer percep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od safety &amp; tra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 and conclu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42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od Safety and Biotechnolog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ames J. Zuich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omas I. Wah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rginia N. Hill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ing Ag Biotechnolog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ferring genetic mate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ronom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ter con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too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oss-bree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tech too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oning, genomics, gene splicing, marker assisted bree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19335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213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Ag Produ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ist insect pests and viru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t corn, potatoes, and cott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acillus thuringiensi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toxic to insect pe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ss-prot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tatoes, squash, papay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lerate herbici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undup Ready” soybe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Food Concer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tential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 vs potential ris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hical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natur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d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vironmental concer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er wee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advertent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terfl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39314" descr=""/>
          <p:cNvPicPr/>
          <p:nvPr/>
        </p:nvPicPr>
        <p:blipFill>
          <a:blip r:embed="rId2"/>
          <a:stretch/>
        </p:blipFill>
        <p:spPr>
          <a:xfrm>
            <a:off x="4659480" y="1676520"/>
            <a:ext cx="3936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Food Concer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g term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tific community respon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3 lett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4 NAS moratoriu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IH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DA, FDA, EP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ordinated frame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 Regulatory Syste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tifically-based, case-by-c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hazard ID and risk assess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ulates end product rather than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ilds on existing institu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ed regulation after demonstrating low ris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and Food Safet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xi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ergenic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ing nutr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lth promo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19330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124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xi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029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ural toxi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occoli, legumes, squash, cucumbers, cel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sava toxin leve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cause de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breed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w analytical stud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er analysis standards for biotech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12010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3703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3T04:48:31Z</dcterms:created>
  <dc:creator>wahl</dc:creator>
  <dc:description/>
  <dc:language>en-US</dc:language>
  <cp:lastModifiedBy>wahl</cp:lastModifiedBy>
  <cp:lastPrinted>2000-03-14T16:34:13Z</cp:lastPrinted>
  <dcterms:modified xsi:type="dcterms:W3CDTF">2000-03-14T23:02:39Z</dcterms:modified>
  <cp:revision>29</cp:revision>
  <dc:subject/>
  <dc:title>Food Safety and Biotechnology</dc:title>
</cp:coreProperties>
</file>